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343-6868-4053-924E-779770D2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2A4-DD68-487E-9324-BA739389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5F2-F916-44A1-83E5-128D9382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4BA-87BB-4ACF-B9C1-7ACFA942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7756-813B-4719-AABA-E9778ED4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A509-EA0F-4C55-9E08-8A076DF1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4762-919C-4770-8323-BA49FA10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97A4-6307-4E7A-8667-6B989EF6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337F-EAC6-4118-AFC2-7126D39F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F0A3-BEBD-4F5D-AF4B-2BBA6177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DB74-8CC5-4A35-A579-C3AD4AE4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DA8-6F0D-4A33-B030-5CAEA91A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1BFE-269D-41D5-954D-2CBA6B6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125C-105D-4B46-A499-BA5438C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CFB8-014A-466C-8ECE-38C129EE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C825-0115-4478-A2B3-167D4C18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7259-0083-42DD-9A14-2E32D4DA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B68-E4A6-4A89-99F6-238F3D04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E11-8AAB-4BCB-B870-C646B29A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C42-3E12-4941-81BC-91215722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490-BFF5-47BD-8446-31ED9D4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A99-3A92-417F-9C09-93C023A2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9AE-402A-418B-97CB-EF6E7B3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003-93B6-4F8B-B7E4-391C2EF9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599E-909D-4CC1-9935-445C377CE4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FEA-32A2-4D46-86BF-71C758A34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 Based               Invisible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December 2001, ETH,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es Helander &lt;jvh@microsoft.co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, TCP/IP, SOAP. Standard protocols. Tu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SOAP prot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-Lite automation. XML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deal with messages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X parser. Push model. Process while rece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ize O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~16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r, tokenizer, marshall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tes with Win2K SOAP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parsing takes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ose. Comp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unnecessary protocol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1: Smart TAG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sends token to r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 received. Ask database for matching person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service sends back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 takes personalized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knows it was recog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P mess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sible kit [aka MMLite] on Tag, R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2000 w/ SOAP Toolkit on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AG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4880" y="1174680"/>
          <a:ext cx="744552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174680"/>
                    <a:ext cx="744552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R Prototype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773360"/>
            <a:ext cx="820872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to hardware has an Atm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91FR408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M based microcontro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ow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.8V, 40 m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off 128KB on-chip 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ometer &amp; RF ra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2 kb/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    second boa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V, 150 m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s don’t match. The trend is toward lower vol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4: Remote snake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-541440" y="1341360"/>
          <a:ext cx="10225080" cy="42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1341360"/>
                    <a:ext cx="1022508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will be available soon (beta n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(several versions), i386, H8, MIPS, TriMedia, Map1000, 68k.  MMU op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development boards. Smart I/O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code on simulator under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 level debugging of all system features except true RT under Visual Studio. Full speed e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-accurate simulators for ARM and TriMe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hatever tools available for device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native debuggers often w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s e.g. 10KB, 20KB on ARM; 26KB, 160KB on x86. Depends 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e.g. 40mW on 5x7 cm 2.8V ARM board with LCD when playing a simple game (snak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886040"/>
            <a:ext cx="4013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     (x86 byt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 Loa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d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-Schedu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4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84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177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2856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22760" y="1886040"/>
            <a:ext cx="4013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KB on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ph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S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KB on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KB on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sible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day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makes them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autonomous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value from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attery op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entered, user contro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s communicat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bination &gt;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mponent Based 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protocols, Tu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decomposed PC, smart I/O 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erating System (MML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everyw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name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interfaces implemented by many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mplementations of any com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to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s you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binding and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to chang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scheduling with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based configuration and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several hardware plat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non-intr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nknown: Bas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13560" y="2516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495680" y="1676520"/>
          <a:ext cx="434340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76520"/>
                    <a:ext cx="434340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() returns object, often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loading 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pace caches or u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count controls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886040"/>
            <a:ext cx="8305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MemAlloc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S = CurrentNameSpac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 =pNS-&gt;Bind(“VMM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VM = pUnk-&gt;QueryInterface(IID_IVmSpac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ap = CreateHeap(pV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ap-&gt;Allocat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114800"/>
            <a:ext cx="337824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Unknown main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 = ne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pUn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4572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838080"/>
            <a:ext cx="7848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MLite OS == Objec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981080"/>
            <a:ext cx="7238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ystem view (no “kerne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walls only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verything can be dynamically loaded, unloaded, replaced and/or re-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able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able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abl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abl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 i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Cs: use the BIOS first, load real drive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py, IDE, SCSI, … anything the PROMs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do this with auto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 over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12720" y="1755720"/>
          <a:ext cx="820260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755720"/>
                    <a:ext cx="8202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09480" y="5181480"/>
            <a:ext cx="7543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verhead acceptable on Tr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~~No overhead on x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che eliminates memory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01:01:47Z</dcterms:created>
  <dc:creator>dane howard</dc:creator>
  <dc:description/>
  <dc:language>en-US</dc:language>
  <cp:lastModifiedBy>jvh</cp:lastModifiedBy>
  <dcterms:modified xsi:type="dcterms:W3CDTF">2002-04-04T02:09:12Z</dcterms:modified>
  <cp:revision>59</cp:revision>
  <dc:subject/>
  <dc:title>Slide 1</dc:title>
</cp:coreProperties>
</file>