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68A-5884-4C5D-A7B0-051DE896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050-09ED-4F9B-B0BE-E7B8F988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7C8-602C-4E50-9F7B-72B4955B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41F-AE3A-4DAB-B397-9DD77B1C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B005-1763-47FB-9757-B42305F4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C8DE-CDE0-4C78-BC9A-26F85FA7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F864-6348-41A3-976B-252E5FB2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3C25-2D13-42A7-8390-06A7DEC5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5EA7-7D78-490E-95C9-5243D88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B061-E7C4-4CF1-B860-7341D4DF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6436-8173-46D0-BF47-1EB37F78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BB2-D32E-4C2F-BB47-D2ECBC85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4B88-D60F-4613-B05B-57F338F4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DCFB-736E-48F5-95CE-360B317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A330-AF4A-474A-9C18-ADC93D6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2DE7-EDF0-43F5-8867-1470FC48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F557-F1B4-4FB1-A4D7-C756231C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F1F-14A0-4156-BFD0-470C34E3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EC9-1065-4D58-B33B-36E8E9A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499-EB03-4B78-B1EB-7D8B56ED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F14-A17D-40A0-91FC-A100362B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F0C-694A-4D3F-B96C-16DFFC85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544-3A68-4E6F-AB13-7CD358B6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746-E44F-4605-9483-3F336D9E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96F5-6238-4435-8D48-20664F4911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E633-B45C-4FA3-BCFE-443015750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nent Based               Invisible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Real-Time Embedded System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, December 3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es Helander &lt;jvh@microsoft.co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ssandro Forin, M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Pham,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gadeeswaran Rajendiran, D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isible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day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makes them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autonomous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value from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attery ope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entered, user contro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s communicat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bination &gt;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omponent Based 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protocols, Tu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decomposed PC, smart I/O c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erating System (MML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everyw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name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interfaces implemented by many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mplementations of any com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to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s you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binding and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to changing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scheduling with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based configuration and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several hardware platfo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, TCP/IP, SOAP. Standard protocols. Tu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SOAP prot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-Lite automation. XML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deal with messages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X parser. Push model. Process while rece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ize O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~16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r, tokenizer, marshall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tes with Win2K SOAP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parsing takes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ose. Comp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unnecessary protocol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will be available soon (beta no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 (several versions), i386, H8, MIPS, TriMedia, Map1000, 68k.  MMU op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development boards. Smart I/O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code on simulator under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 level debugging of all system features except true RT under Visual Studio. Full speed e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-accurate simulators for ARM and TriMe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hatever tools available for device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native debuggers often w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s e.g. 10KB, 20KB on ARM; 26KB, 160KB on x86. Depends 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e.g. 40mW on 5x7 cm 2.8V ARM board with LCD when playing a simple game (snak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01:01:47Z</dcterms:created>
  <dc:creator>dane howard</dc:creator>
  <dc:description/>
  <dc:language>en-US</dc:language>
  <cp:lastModifiedBy>jvh</cp:lastModifiedBy>
  <dcterms:modified xsi:type="dcterms:W3CDTF">2002-04-04T02:10:54Z</dcterms:modified>
  <cp:revision>57</cp:revision>
  <dc:subject/>
  <dc:title>Slide 1</dc:title>
</cp:coreProperties>
</file>