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4CF-4E15-4411-B6CF-080A3CBD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296258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46280" y="25370280"/>
            <a:ext cx="296258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D58-329A-458C-8427-EFD7A33E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46280" y="2537028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6826760" y="2537028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7A0-F62C-4F92-87E4-6230A443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953928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662920" y="10240920"/>
            <a:ext cx="953928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679560" y="10240920"/>
            <a:ext cx="953928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46280" y="25370280"/>
            <a:ext cx="953928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662920" y="25370280"/>
            <a:ext cx="953928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1679560" y="25370280"/>
            <a:ext cx="953928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764-A53F-44E2-BEA1-47468543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46280" y="10240920"/>
            <a:ext cx="29625840" cy="28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75"/>
              </a:spcBef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5E8-6CF5-4CB2-81E8-1C5FF005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29625840" cy="289656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2AE-07B6-4D55-A661-C0E48E0D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289656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289656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B48-07E0-4B14-B991-93649460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586-71A7-4893-8590-E33184A2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46280" y="1757520"/>
            <a:ext cx="296258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75"/>
              </a:spcBef>
              <a:tabLst>
                <a:tab algn="l" pos="0"/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C31-6FEB-4335-9A80-3E3E7324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289656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46280" y="2537028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A8B-A55F-4773-AB3F-F88EA27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289656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826760" y="2537028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EBB-9BF7-437B-892D-F788E12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46280" y="25370280"/>
            <a:ext cx="29625840" cy="1381644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indent="0">
              <a:spcBef>
                <a:spcPts val="3475"/>
              </a:spcBef>
              <a:buNone/>
              <a:tabLst>
                <a:tab algn="l" pos="3970440"/>
                <a:tab algn="l" pos="7940520"/>
              </a:tabLst>
            </a:pP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95E-7849-43BD-A56D-4B22928B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ctr">
            <a:noAutofit/>
          </a:bodyPr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10240920"/>
            <a:ext cx="29625840" cy="2896560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rmAutofit/>
          </a:bodyPr>
          <a:p>
            <a:pPr marL="1488960" indent="-1488960">
              <a:spcBef>
                <a:spcPts val="3475"/>
              </a:spcBef>
              <a:buClr>
                <a:srgbClr val="000000"/>
              </a:buClr>
              <a:buFont typeface="Arial"/>
              <a:buChar char="•"/>
              <a:tabLst>
                <a:tab algn="l" pos="3970440"/>
                <a:tab algn="l" pos="794052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lvl="1" marL="3225960" indent="-1239840">
              <a:spcBef>
                <a:spcPts val="3475"/>
              </a:spcBef>
              <a:buClr>
                <a:srgbClr val="000000"/>
              </a:buClr>
              <a:buFont typeface="Arial"/>
              <a:buChar char="–"/>
              <a:tabLst>
                <a:tab algn="l" pos="3970440"/>
                <a:tab algn="l" pos="794052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lvl="2" marL="4964040" indent="-993600">
              <a:spcBef>
                <a:spcPts val="3475"/>
              </a:spcBef>
              <a:buClr>
                <a:srgbClr val="000000"/>
              </a:buClr>
              <a:buFont typeface="Arial"/>
              <a:buChar char="•"/>
              <a:tabLst>
                <a:tab algn="l" pos="3970440"/>
                <a:tab algn="l" pos="794052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lvl="3" marL="6950160" indent="-993960">
              <a:spcBef>
                <a:spcPts val="3475"/>
              </a:spcBef>
              <a:buClr>
                <a:srgbClr val="000000"/>
              </a:buClr>
              <a:buFont typeface="Arial"/>
              <a:buChar char="–"/>
              <a:tabLst>
                <a:tab algn="l" pos="3970440"/>
                <a:tab algn="l" pos="794052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lvl="4" marL="8934480" indent="-992160">
              <a:spcBef>
                <a:spcPts val="3475"/>
              </a:spcBef>
              <a:buClr>
                <a:srgbClr val="000000"/>
              </a:buClr>
              <a:buFont typeface="Arial"/>
              <a:buChar char="»"/>
              <a:tabLst>
                <a:tab algn="l" pos="3970440"/>
                <a:tab algn="l" pos="794052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lvl="5" marL="8934480" indent="-992160">
              <a:spcBef>
                <a:spcPts val="3475"/>
              </a:spcBef>
              <a:buClr>
                <a:srgbClr val="000000"/>
              </a:buClr>
              <a:buFont typeface="Arial"/>
              <a:buChar char="»"/>
              <a:tabLst>
                <a:tab algn="l" pos="3970440"/>
                <a:tab algn="l" pos="794052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lvl="6" marL="8934480" indent="-992160">
              <a:spcBef>
                <a:spcPts val="3475"/>
              </a:spcBef>
              <a:buClr>
                <a:srgbClr val="000000"/>
              </a:buClr>
              <a:buFont typeface="Arial"/>
              <a:buChar char="»"/>
              <a:tabLst>
                <a:tab algn="l" pos="3970440"/>
                <a:tab algn="l" pos="794052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39968640"/>
            <a:ext cx="7680240" cy="304776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Autofit/>
          </a:bodyPr>
          <a:lstStyle>
            <a:lvl1pPr indent="0">
              <a:buNone/>
              <a:tabLst>
                <a:tab algn="l" pos="0"/>
                <a:tab algn="l" pos="3970440"/>
                <a:tab algn="l" pos="7940520"/>
              </a:tabLst>
              <a:defRPr b="0" lang="en-US" sz="6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3970440"/>
                <a:tab algn="l" pos="794052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39968640"/>
            <a:ext cx="10423440" cy="304776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Autofit/>
          </a:bodyPr>
          <a:lstStyle>
            <a:lvl1pPr indent="0" algn="ctr">
              <a:buNone/>
              <a:tabLst>
                <a:tab algn="l" pos="0"/>
                <a:tab algn="l" pos="3970440"/>
                <a:tab algn="l" pos="7940520"/>
              </a:tabLst>
              <a:defRPr b="0" lang="en-US" sz="6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3970440"/>
                <a:tab algn="l" pos="794052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39968640"/>
            <a:ext cx="7680240" cy="3047760"/>
          </a:xfrm>
          <a:prstGeom prst="rect">
            <a:avLst/>
          </a:prstGeom>
          <a:noFill/>
          <a:ln w="0">
            <a:noFill/>
          </a:ln>
        </p:spPr>
        <p:txBody>
          <a:bodyPr lIns="397080" rIns="397080" tIns="198720" bIns="198720" anchor="t">
            <a:noAutofit/>
          </a:bodyPr>
          <a:lstStyle>
            <a:lvl1pPr indent="0" algn="r">
              <a:buNone/>
              <a:tabLst>
                <a:tab algn="l" pos="0"/>
                <a:tab algn="l" pos="3970440"/>
                <a:tab algn="l" pos="7940520"/>
              </a:tabLst>
              <a:defRPr b="0" lang="en-US" sz="6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3970440"/>
                <a:tab algn="l" pos="7940520"/>
              </a:tabLst>
            </a:pPr>
            <a:fld id="{C5E714E1-8242-44EB-B139-A3BA43A53DA3}" type="slidenum">
              <a:rPr b="0" lang="en-US" sz="61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5486400" y="14630400"/>
            <a:ext cx="21945600" cy="14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752400" y="16444800"/>
            <a:ext cx="9283680" cy="6267600"/>
            <a:chOff x="752400" y="16444800"/>
            <a:chExt cx="9283680" cy="6267600"/>
          </a:xfrm>
        </p:grpSpPr>
        <p:sp>
          <p:nvSpPr>
            <p:cNvPr id="43" name=""/>
            <p:cNvSpPr/>
            <p:nvPr/>
          </p:nvSpPr>
          <p:spPr>
            <a:xfrm>
              <a:off x="752400" y="16444800"/>
              <a:ext cx="9283680" cy="626760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7040" y="16487640"/>
              <a:ext cx="9213840" cy="100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3970440"/>
                  <a:tab algn="l" pos="794052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Resource Estima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" name=""/>
            <p:cNvGraphicFramePr/>
            <p:nvPr/>
          </p:nvGraphicFramePr>
          <p:xfrm>
            <a:off x="984240" y="19127520"/>
            <a:ext cx="8512200" cy="345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84240" y="19127520"/>
                      <a:ext cx="8512200" cy="345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" name=""/>
          <p:cNvSpPr/>
          <p:nvPr/>
        </p:nvSpPr>
        <p:spPr>
          <a:xfrm>
            <a:off x="752400" y="5435640"/>
            <a:ext cx="18999360" cy="1016784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458080" y="32362920"/>
            <a:ext cx="11460240" cy="999936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451600" y="32405760"/>
            <a:ext cx="11438280" cy="12826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3970440"/>
                <a:tab algn="l" pos="794052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Arial"/>
                <a:ea typeface="宋体"/>
              </a:rPr>
              <a:t>Demo Structure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730360" y="39011400"/>
            <a:ext cx="933480" cy="65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b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32040" y="36733320"/>
            <a:ext cx="936720" cy="65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b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107680" y="35213760"/>
            <a:ext cx="816120" cy="65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832040" y="35106120"/>
            <a:ext cx="936720" cy="65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677720" y="40422600"/>
            <a:ext cx="93528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13000" y="39662280"/>
            <a:ext cx="583920" cy="1085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0" y="480"/>
                </a:moveTo>
                <a:lnTo>
                  <a:pt x="240" y="479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300400" y="35757000"/>
            <a:ext cx="0" cy="9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31480" y="361900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i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196200" y="403146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i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054680" y="40748040"/>
            <a:ext cx="362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055040" y="34020000"/>
            <a:ext cx="0" cy="726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55040" y="35541000"/>
            <a:ext cx="10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55040" y="34342560"/>
            <a:ext cx="7245360" cy="763560"/>
          </a:xfrm>
          <a:custGeom>
            <a:avLst/>
            <a:gdLst/>
            <a:ahLst/>
            <a:rect l="l" t="t" r="r" b="b"/>
            <a:pathLst>
              <a:path w="2976" h="338">
                <a:moveTo>
                  <a:pt x="0" y="2"/>
                </a:moveTo>
                <a:lnTo>
                  <a:pt x="2976" y="0"/>
                </a:lnTo>
                <a:lnTo>
                  <a:pt x="2976" y="3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53240" y="408560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red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0560" y="37276200"/>
            <a:ext cx="2104920" cy="65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nsor firm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209360" y="38468160"/>
            <a:ext cx="2338560" cy="6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ta sink firm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496720" y="37599840"/>
            <a:ext cx="933480" cy="86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807880" y="34780680"/>
            <a:ext cx="12855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77040" y="3803508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ta rea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807880" y="35541000"/>
            <a:ext cx="12855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l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60160" y="37927080"/>
            <a:ext cx="1284480" cy="65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al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196920" y="36733320"/>
            <a:ext cx="1285920" cy="65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al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338800" y="3673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651400" y="35541000"/>
            <a:ext cx="1285920" cy="8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ial-t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651400" y="34562880"/>
            <a:ext cx="1285920" cy="8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/O protoc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62000" y="40963680"/>
            <a:ext cx="1285920" cy="868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ial-t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60160" y="40963680"/>
            <a:ext cx="1284480" cy="868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/O protoc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3440" y="34996320"/>
            <a:ext cx="2689560" cy="1720800"/>
          </a:xfrm>
          <a:custGeom>
            <a:avLst/>
            <a:gdLst/>
            <a:ahLst/>
            <a:rect l="l" t="t" r="r" b="b"/>
            <a:pathLst>
              <a:path w="1105" h="761">
                <a:moveTo>
                  <a:pt x="1105" y="761"/>
                </a:moveTo>
                <a:lnTo>
                  <a:pt x="1105" y="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496000" y="3510612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509520" y="36190080"/>
            <a:ext cx="934920" cy="173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509520" y="36190080"/>
            <a:ext cx="2687400" cy="86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29680" y="34991640"/>
            <a:ext cx="2130480" cy="3260880"/>
          </a:xfrm>
          <a:custGeom>
            <a:avLst/>
            <a:gdLst/>
            <a:ahLst/>
            <a:rect l="l" t="t" r="r" b="b"/>
            <a:pathLst>
              <a:path w="875" h="1442">
                <a:moveTo>
                  <a:pt x="875" y="1442"/>
                </a:moveTo>
                <a:lnTo>
                  <a:pt x="0" y="1440"/>
                </a:lnTo>
                <a:lnTo>
                  <a:pt x="0" y="0"/>
                </a:lnTo>
                <a:lnTo>
                  <a:pt x="443" y="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754160" y="378172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3440" y="35263080"/>
            <a:ext cx="520920" cy="441360"/>
          </a:xfrm>
          <a:custGeom>
            <a:avLst/>
            <a:gdLst/>
            <a:ahLst/>
            <a:rect l="l" t="t" r="r" b="b"/>
            <a:pathLst>
              <a:path w="214" h="195">
                <a:moveTo>
                  <a:pt x="7" y="0"/>
                </a:moveTo>
                <a:lnTo>
                  <a:pt x="214" y="0"/>
                </a:lnTo>
                <a:lnTo>
                  <a:pt x="214" y="195"/>
                </a:lnTo>
                <a:lnTo>
                  <a:pt x="0" y="19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59280" y="35429760"/>
            <a:ext cx="98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babi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07680" y="39336840"/>
            <a:ext cx="816120" cy="650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55040" y="39662280"/>
            <a:ext cx="10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1200" y="37817280"/>
            <a:ext cx="1284480" cy="65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ntp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60160" y="39011400"/>
            <a:ext cx="1284480" cy="65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ntp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416320" y="37491840"/>
            <a:ext cx="1287360" cy="435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AP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041160" y="38685960"/>
            <a:ext cx="1285920" cy="434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AP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32918400" cy="436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1200"/>
            <a:ext cx="32349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970440"/>
                <a:tab algn="l" pos="794052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宋体"/>
              </a:rPr>
              <a:t>Real-Time SO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70440"/>
                <a:tab algn="l" pos="794052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宋体"/>
              </a:rPr>
              <a:t>Self-tuning Planned Activities For Interoperating Low-Cost Devic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7080" y="3209760"/>
            <a:ext cx="163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  <a:ea typeface="宋体"/>
              </a:rPr>
              <a:t>Johannes Helander, Stefan Sigurds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4160" y="5418000"/>
            <a:ext cx="11460240" cy="101682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54920" y="5460840"/>
            <a:ext cx="11380680" cy="12826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970440"/>
                <a:tab algn="l" pos="794052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Arial"/>
                <a:ea typeface="宋体"/>
              </a:rPr>
              <a:t>Behavior Pattern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51920" y="8696160"/>
            <a:ext cx="10780560" cy="631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behavior name="SensorDemo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action name="DemoInstigat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endpoint="node:instigator/COB/sensormain.cob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message destination="SensorProducer/*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/ac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action name="SensorProduc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endpoint="node:sensor/COB/sensor.cob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repeat count="100" Period="P1.5S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message destination="SensorConsumer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/ac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action name="SensorConsum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endpoint="node:consumer/COB/sensor.cob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repeat count="100" period=”P1.5S”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/ac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sampling destination="node:instigat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interval="20" number="2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/behavio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32600" y="6923160"/>
            <a:ext cx="114188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5298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efine the actions and resources for a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298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Given to pla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837800" y="42872040"/>
            <a:ext cx="10335960" cy="1190520"/>
            <a:chOff x="10837800" y="42872040"/>
            <a:chExt cx="10335960" cy="1190520"/>
          </a:xfrm>
        </p:grpSpPr>
        <p:sp>
          <p:nvSpPr>
            <p:cNvPr id="99" name=""/>
            <p:cNvSpPr/>
            <p:nvPr/>
          </p:nvSpPr>
          <p:spPr>
            <a:xfrm>
              <a:off x="10837800" y="42872040"/>
              <a:ext cx="10285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59840" y="42951240"/>
              <a:ext cx="1021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3970440"/>
                  <a:tab algn="l" pos="7940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ttp://research.microsoft.com/invisib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19200" y="43075080"/>
              <a:ext cx="9657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70440"/>
                  <a:tab algn="l" pos="7940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0497680" y="16457760"/>
            <a:ext cx="11460240" cy="73134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48440" y="16500600"/>
            <a:ext cx="11323800" cy="10083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970440"/>
                <a:tab algn="l" pos="79405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Pattern Instance: Tas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45440" y="19392840"/>
            <a:ext cx="1078056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task name="SensorDemo-123456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action name="SensorProduc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deadline=”2004-12-11T02:51:48.7001508Z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tolerance=”P0.005S” duration=”P0.02S”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trigger maxCount="100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offset="P1.5S"&gt;SensorProducer&lt;/trigg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/ac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sampling destination=http://10.10.10.10/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interval="20" number="2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宋体"/>
              </a:rPr>
              <a:t>&lt;/task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799360" y="17562600"/>
            <a:ext cx="111459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5298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pecific time and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298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ent to worker by pla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459200" y="3174840"/>
            <a:ext cx="163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  <a:ea typeface="宋体"/>
              </a:rPr>
              <a:t>Microsoft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240" y="5478480"/>
            <a:ext cx="18962640" cy="128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970440"/>
                <a:tab algn="l" pos="794052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Arial"/>
                <a:ea typeface="宋体"/>
              </a:rPr>
              <a:t>What Is This?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01640" y="32370840"/>
            <a:ext cx="19010520" cy="9996480"/>
            <a:chOff x="701640" y="32370840"/>
            <a:chExt cx="19010520" cy="9996480"/>
          </a:xfrm>
        </p:grpSpPr>
        <p:sp>
          <p:nvSpPr>
            <p:cNvPr id="109" name=""/>
            <p:cNvSpPr/>
            <p:nvPr/>
          </p:nvSpPr>
          <p:spPr>
            <a:xfrm>
              <a:off x="712800" y="32370840"/>
              <a:ext cx="18999360" cy="999648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640" y="32413680"/>
              <a:ext cx="18962640" cy="1282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970440"/>
                  <a:tab algn="l" pos="7940520"/>
                </a:tabLst>
              </a:pPr>
              <a:r>
                <a:rPr b="0" lang="en-US" sz="7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hat Can You Do With It?</a:t>
              </a:r>
              <a:endParaRPr b="0" lang="en-US" sz="7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014480" y="17578440"/>
            <a:ext cx="9663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5298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pp specifies confidence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298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igher confidence costs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561680" y="16471800"/>
            <a:ext cx="9924840" cy="5657760"/>
            <a:chOff x="10561680" y="16471800"/>
            <a:chExt cx="9924840" cy="5657760"/>
          </a:xfrm>
        </p:grpSpPr>
        <p:sp>
          <p:nvSpPr>
            <p:cNvPr id="113" name=""/>
            <p:cNvSpPr/>
            <p:nvPr/>
          </p:nvSpPr>
          <p:spPr>
            <a:xfrm>
              <a:off x="10561680" y="16471800"/>
              <a:ext cx="9196200" cy="56577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960" y="16514640"/>
              <a:ext cx="9118800" cy="100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3970440"/>
                  <a:tab algn="l" pos="794052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Reservation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23400" y="17547840"/>
              <a:ext cx="96631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ts val="5298"/>
                </a:lnSpc>
                <a:tabLst>
                  <a:tab algn="l" pos="0"/>
                  <a:tab algn="l" pos="3970440"/>
                  <a:tab algn="l" pos="794052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atistical model predicts estima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ts val="5298"/>
                </a:lnSpc>
                <a:tabLst>
                  <a:tab algn="l" pos="0"/>
                  <a:tab algn="l" pos="3970440"/>
                  <a:tab algn="l" pos="794052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olerance depends on mediu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4720400" y="20441880"/>
              <a:ext cx="1116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349640" y="20449800"/>
              <a:ext cx="1116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1266200" y="20470680"/>
              <a:ext cx="1260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562440" y="21197520"/>
              <a:ext cx="244404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 mean + confid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78080" y="21167640"/>
              <a:ext cx="1535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ole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360" y="19765800"/>
              <a:ext cx="14166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ad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196240" y="19386360"/>
              <a:ext cx="977760" cy="7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42400" y="19429200"/>
              <a:ext cx="1249200" cy="7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arli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49560" y="20692800"/>
              <a:ext cx="458604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1298240" y="20783160"/>
              <a:ext cx="3398760" cy="12960"/>
            </a:xfrm>
            <a:prstGeom prst="line">
              <a:avLst/>
            </a:prstGeom>
            <a:ln w="127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00200" y="23263200"/>
            <a:ext cx="11287080" cy="757224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13720" y="26884440"/>
            <a:ext cx="2843280" cy="1006200"/>
          </a:xfrm>
          <a:prstGeom prst="ellipse">
            <a:avLst/>
          </a:prstGeom>
          <a:solidFill>
            <a:srgbClr val="00ffff">
              <a:alpha val="24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0256760" y="26345880"/>
            <a:ext cx="1800" cy="3716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840360" y="26363520"/>
            <a:ext cx="1800" cy="334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0360" y="29708640"/>
            <a:ext cx="392760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1440" y="29459160"/>
            <a:ext cx="71136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18760" y="29459160"/>
            <a:ext cx="71424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24960" y="29522880"/>
            <a:ext cx="1604880" cy="28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789920" y="294544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2160" y="2964816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1440" y="29708640"/>
            <a:ext cx="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259640" y="2966076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45680" y="29721240"/>
            <a:ext cx="180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00760" y="2964816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72160" y="29235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60320" y="25881120"/>
            <a:ext cx="30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consum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7920" y="29230560"/>
            <a:ext cx="71280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26680" y="29230560"/>
            <a:ext cx="71604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31080" y="29294280"/>
            <a:ext cx="1608120" cy="28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7920" y="29006640"/>
            <a:ext cx="71280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526680" y="29006640"/>
            <a:ext cx="71604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31080" y="29070360"/>
            <a:ext cx="160812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7920" y="28783080"/>
            <a:ext cx="71280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526680" y="28783080"/>
            <a:ext cx="71604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1080" y="28846440"/>
            <a:ext cx="160812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46800" y="28562400"/>
            <a:ext cx="49392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526680" y="28562400"/>
            <a:ext cx="71604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31080" y="28625760"/>
            <a:ext cx="160812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46800" y="28337040"/>
            <a:ext cx="49392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526680" y="28337040"/>
            <a:ext cx="71604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31080" y="28400400"/>
            <a:ext cx="160812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46800" y="28114560"/>
            <a:ext cx="49392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26680" y="28114560"/>
            <a:ext cx="71604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31080" y="28178280"/>
            <a:ext cx="160812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9080" y="27890640"/>
            <a:ext cx="492120" cy="122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542520" y="27890640"/>
            <a:ext cx="714240" cy="122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51920" y="27947520"/>
            <a:ext cx="1225440" cy="46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23320" y="27667080"/>
            <a:ext cx="49356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98200" y="27667080"/>
            <a:ext cx="37440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605800" y="27723960"/>
            <a:ext cx="1225440" cy="64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23320" y="27443160"/>
            <a:ext cx="49356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898200" y="27443160"/>
            <a:ext cx="37440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605800" y="27501840"/>
            <a:ext cx="1225440" cy="64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3320" y="27221040"/>
            <a:ext cx="493560" cy="123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898200" y="27221040"/>
            <a:ext cx="374400" cy="123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605800" y="27277920"/>
            <a:ext cx="1225440" cy="64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3320" y="26998560"/>
            <a:ext cx="493560" cy="122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898200" y="26998560"/>
            <a:ext cx="374400" cy="122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605800" y="27054000"/>
            <a:ext cx="1225440" cy="64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24920" y="3023244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D player to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16160" y="26839800"/>
            <a:ext cx="2841480" cy="1006560"/>
          </a:xfrm>
          <a:prstGeom prst="ellipse">
            <a:avLst/>
          </a:prstGeom>
          <a:solidFill>
            <a:srgbClr val="00ffff">
              <a:alpha val="24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58840" y="26318880"/>
            <a:ext cx="1800" cy="3716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166760" y="26318880"/>
            <a:ext cx="3240" cy="33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66760" y="29664000"/>
            <a:ext cx="3927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47840" y="29414880"/>
            <a:ext cx="71100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44800" y="29414880"/>
            <a:ext cx="71604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51000" y="29478240"/>
            <a:ext cx="160668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17760" y="294102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7120" y="2960388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47840" y="29664000"/>
            <a:ext cx="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74800" y="2960388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60840" y="29664000"/>
            <a:ext cx="180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28600" y="2960388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·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98560" y="29190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50080" y="2586672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ed producer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53960" y="29186280"/>
            <a:ext cx="71280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4520" y="29186280"/>
            <a:ext cx="71424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57480" y="29249640"/>
            <a:ext cx="160812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53960" y="28962360"/>
            <a:ext cx="71280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4520" y="28962360"/>
            <a:ext cx="71424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57480" y="29025720"/>
            <a:ext cx="1608120" cy="32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53960" y="28738440"/>
            <a:ext cx="71280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4520" y="28738440"/>
            <a:ext cx="71424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57480" y="28802160"/>
            <a:ext cx="1608120" cy="28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4640" y="28517760"/>
            <a:ext cx="49212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4520" y="28517760"/>
            <a:ext cx="71424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57480" y="28581480"/>
            <a:ext cx="1608120" cy="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74640" y="28292400"/>
            <a:ext cx="49212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4520" y="28292400"/>
            <a:ext cx="71424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57480" y="28355760"/>
            <a:ext cx="160812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74640" y="28070280"/>
            <a:ext cx="49212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4520" y="28070280"/>
            <a:ext cx="714240" cy="12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57480" y="28133640"/>
            <a:ext cx="1608120" cy="1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84360" y="27846360"/>
            <a:ext cx="492120" cy="122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27846360"/>
            <a:ext cx="712800" cy="122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165400" y="27903240"/>
            <a:ext cx="1227240" cy="46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74640" y="27622440"/>
            <a:ext cx="49212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8080" y="27622440"/>
            <a:ext cx="37620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57480" y="27679680"/>
            <a:ext cx="1225440" cy="64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74640" y="27398520"/>
            <a:ext cx="49212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48080" y="27398520"/>
            <a:ext cx="376200" cy="12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157480" y="27457200"/>
            <a:ext cx="1225440" cy="61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74640" y="27176400"/>
            <a:ext cx="49212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48080" y="27176400"/>
            <a:ext cx="37620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57480" y="27233280"/>
            <a:ext cx="1225440" cy="61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74640" y="26954280"/>
            <a:ext cx="492120" cy="122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48080" y="26954280"/>
            <a:ext cx="376200" cy="122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157480" y="27009720"/>
            <a:ext cx="1225440" cy="64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7800" y="3017844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nsor to rec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68080" y="271540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eady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4480" y="23306040"/>
            <a:ext cx="112093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970440"/>
                <a:tab algn="l" pos="79405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Adap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61920" y="24339600"/>
            <a:ext cx="9663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5298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eedback is collected by sam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298"/>
              </a:lnSpc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servations adapt probabilist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918880" y="27476280"/>
            <a:ext cx="10029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794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570680" y="23248800"/>
            <a:ext cx="7008840" cy="10865160"/>
          </a:xfrm>
          <a:prstGeom prst="rect">
            <a:avLst/>
          </a:prstGeom>
          <a:solidFill>
            <a:srgbClr val="00ff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993920" y="21259800"/>
            <a:ext cx="4933800" cy="4260960"/>
          </a:xfrm>
          <a:prstGeom prst="rect">
            <a:avLst/>
          </a:prstGeom>
          <a:solidFill>
            <a:srgbClr val="00ffff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713440" y="32623200"/>
            <a:ext cx="1787400" cy="10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04776" dir="3616806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931280" y="28078200"/>
            <a:ext cx="1787760" cy="10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04776" dir="3616806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140160" y="22821840"/>
            <a:ext cx="1787400" cy="10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04776" dir="3616806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rot="18993600">
            <a:off x="19141560" y="30419640"/>
            <a:ext cx="4146840" cy="954360"/>
          </a:xfrm>
          <a:custGeom>
            <a:avLst/>
            <a:gdLst>
              <a:gd name="textAreaLeft" fmla="*/ 647640 w 4146840"/>
              <a:gd name="textAreaRight" fmla="*/ 3628440 w 4146840"/>
              <a:gd name="textAreaTop" fmla="*/ 238680 h 954360"/>
              <a:gd name="textAreaBottom" fmla="*/ 716040 h 95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022" dir="331712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354520" y="23674320"/>
            <a:ext cx="8829720" cy="4208400"/>
          </a:xfrm>
          <a:custGeom>
            <a:avLst/>
            <a:gdLst/>
            <a:ahLst/>
            <a:rect l="l" t="t" r="r" b="b"/>
            <a:pathLst>
              <a:path w="5928" h="2844">
                <a:moveTo>
                  <a:pt x="0" y="0"/>
                </a:moveTo>
                <a:cubicBezTo>
                  <a:pt x="870" y="246"/>
                  <a:pt x="4374" y="1004"/>
                  <a:pt x="5184" y="1478"/>
                </a:cubicBezTo>
                <a:cubicBezTo>
                  <a:pt x="5928" y="1984"/>
                  <a:pt x="4928" y="2560"/>
                  <a:pt x="4860" y="28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102000" y="24242760"/>
            <a:ext cx="2468520" cy="8396280"/>
          </a:xfrm>
          <a:custGeom>
            <a:avLst/>
            <a:gdLst/>
            <a:ahLst/>
            <a:rect l="l" t="t" r="r" b="b"/>
            <a:pathLst>
              <a:path w="1656" h="5676">
                <a:moveTo>
                  <a:pt x="600" y="0"/>
                </a:moveTo>
                <a:cubicBezTo>
                  <a:pt x="554" y="778"/>
                  <a:pt x="0" y="4092"/>
                  <a:pt x="324" y="4668"/>
                </a:cubicBezTo>
                <a:cubicBezTo>
                  <a:pt x="648" y="5244"/>
                  <a:pt x="1378" y="5466"/>
                  <a:pt x="1656" y="56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  <a:effectLst>
            <a:outerShdw dist="169589" dir="4619776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292160" y="27508320"/>
            <a:ext cx="2539800" cy="3267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3138200" y="22609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la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107680" y="2935764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rodu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735920" y="3298356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su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494880" y="311310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970440"/>
                <a:tab algn="l" pos="7940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ens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70440"/>
                <a:tab algn="l" pos="7940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ea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857280" y="2821932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74960" y="2481264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577600" y="24030000"/>
            <a:ext cx="5727600" cy="9018720"/>
          </a:xfrm>
          <a:custGeom>
            <a:avLst/>
            <a:gdLst/>
            <a:ahLst/>
            <a:rect l="l" t="t" r="r" b="b"/>
            <a:pathLst>
              <a:path w="3845" h="6096">
                <a:moveTo>
                  <a:pt x="3845" y="6096"/>
                </a:moveTo>
                <a:cubicBezTo>
                  <a:pt x="3231" y="5865"/>
                  <a:pt x="318" y="5660"/>
                  <a:pt x="159" y="4709"/>
                </a:cubicBezTo>
                <a:cubicBezTo>
                  <a:pt x="0" y="3759"/>
                  <a:pt x="1983" y="981"/>
                  <a:pt x="246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  <a:effectLst>
            <a:outerShdw dist="115171" dir="502314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208680" y="3042144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970440"/>
                <a:tab algn="l" pos="7940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9851200" y="0"/>
            <a:ext cx="3067200" cy="2125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316320" y="6953400"/>
            <a:ext cx="13885920" cy="143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 programming model and software infrastructure for self-tuning coordination of embedded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440" y="8729640"/>
            <a:ext cx="94852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omain of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istributed real-time applications in ubiquitous computing scenar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ssisted living for the elderly       Home and office auto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dependent, zero effort     deployment and interoperation    across all devic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632120"/>
            <a:ext cx="13885920" cy="143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Guarantee adequate resource availability and timely processing of critica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344240" y="8858160"/>
            <a:ext cx="0" cy="62294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710720" y="8690040"/>
            <a:ext cx="94852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echnology ap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Low cost microcontrollers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≈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$5) integrated into everyday objects   using XML for data interchan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al-time scheduler on nodes       Task planner delegate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ecure service discovery and adaptive resource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080" y="34007400"/>
            <a:ext cx="94852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ensor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asures real-world activity       Heart rate, sound, temperature          Produces readings at a regular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corder action deadlines and durations are adjusted according to transmission time and measured processing requir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280520" y="34135920"/>
            <a:ext cx="0" cy="62294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47360" y="36996840"/>
            <a:ext cx="9485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peaker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3970440"/>
                <a:tab algn="l" pos="7940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s for the sensor scenario, except consuming must receive data at a regular rate, so producer adjust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15140160" y="33261480"/>
            <a:ext cx="24015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23:34:55Z</dcterms:created>
  <dc:creator>t-neekza</dc:creator>
  <dc:description/>
  <dc:language>en-US</dc:language>
  <cp:lastModifiedBy>jvh</cp:lastModifiedBy>
  <dcterms:modified xsi:type="dcterms:W3CDTF">2005-03-02T00:34:28Z</dcterms:modified>
  <cp:revision>82</cp:revision>
  <dc:subject/>
  <dc:title>  GIANO The Two Headed Simulator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75124700</vt:r8>
  </property>
  <property fmtid="{D5CDD505-2E9C-101B-9397-08002B2CF9AE}" pid="3" name="_AuthorEmail">
    <vt:lpwstr>jvh@microsoft.com</vt:lpwstr>
  </property>
  <property fmtid="{D5CDD505-2E9C-101B-9397-08002B2CF9AE}" pid="4" name="_AuthorEmailDisplayName">
    <vt:lpwstr>Johannes Helander</vt:lpwstr>
  </property>
  <property fmtid="{D5CDD505-2E9C-101B-9397-08002B2CF9AE}" pid="5" name="_EmailSubject">
    <vt:lpwstr>soaprt-poster9.ppt</vt:lpwstr>
  </property>
</Properties>
</file>