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438912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817-F5D0-45A2-9CF3-8DF632FC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9020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68520" y="12678840"/>
            <a:ext cx="2798136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8520" y="26434080"/>
            <a:ext cx="2798136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363-BF86-4C69-83B0-84A21662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9020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68520" y="12678840"/>
            <a:ext cx="1365480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06600" y="12678840"/>
            <a:ext cx="1365480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68520" y="26434080"/>
            <a:ext cx="1365480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06600" y="26434080"/>
            <a:ext cx="1365480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027-C27A-4F1B-93EA-B9F16CA0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9020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68520" y="12678840"/>
            <a:ext cx="900972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928960" y="12678840"/>
            <a:ext cx="900972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89760" y="12678840"/>
            <a:ext cx="900972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68520" y="26434080"/>
            <a:ext cx="900972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928960" y="26434080"/>
            <a:ext cx="900972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89760" y="26434080"/>
            <a:ext cx="900972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588-524E-4301-9394-5BFB9B04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9020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68520" y="12678840"/>
            <a:ext cx="27981360" cy="263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0A7-28E6-4C45-B99D-34314428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9020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68520" y="12678840"/>
            <a:ext cx="27981360" cy="26335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E07-BF25-4268-A020-04EDB87F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9020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68520" y="12678840"/>
            <a:ext cx="13654800" cy="26335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06600" y="12678840"/>
            <a:ext cx="13654800" cy="26335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5C9-AAF4-4450-81B2-C2096B4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9020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0E2-D2FE-474F-B78A-F7AE2322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902040"/>
            <a:ext cx="3291840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708-1022-4C66-8CEA-A76E8336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9020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68520" y="12678840"/>
            <a:ext cx="1365480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06600" y="12678840"/>
            <a:ext cx="13654800" cy="26335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68520" y="26434080"/>
            <a:ext cx="1365480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75F-D0A0-4178-A369-6F749E47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9020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68520" y="12678840"/>
            <a:ext cx="13654800" cy="26335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06600" y="12678840"/>
            <a:ext cx="1365480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06600" y="26434080"/>
            <a:ext cx="1365480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562-F238-4971-9386-7840BA2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9020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68520" y="12678840"/>
            <a:ext cx="1365480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06600" y="12678840"/>
            <a:ext cx="1365480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8520" y="26434080"/>
            <a:ext cx="27981360" cy="12561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805-F48A-4C48-9CE5-79F85019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90204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68520" y="12678840"/>
            <a:ext cx="27981360" cy="26335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68520" y="39988800"/>
            <a:ext cx="6858000" cy="292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39988800"/>
            <a:ext cx="10423440" cy="292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39988800"/>
            <a:ext cx="6858000" cy="292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038A2D6F-2015-46C8-841C-C216B83ACDB6}" type="slidenum"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5257800"/>
            <a:ext cx="32918400" cy="38633400"/>
            <a:chOff x="0" y="5257800"/>
            <a:chExt cx="32918400" cy="38633400"/>
          </a:xfrm>
        </p:grpSpPr>
        <p:sp>
          <p:nvSpPr>
            <p:cNvPr id="42" name=""/>
            <p:cNvSpPr/>
            <p:nvPr/>
          </p:nvSpPr>
          <p:spPr>
            <a:xfrm>
              <a:off x="0" y="5257800"/>
              <a:ext cx="32918400" cy="3863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3200" y="17381520"/>
              <a:ext cx="11887200" cy="822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76720" y="18550080"/>
              <a:ext cx="11048760" cy="67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tandard protocols – tun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mbedded SOAP prototyp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-Lite automation driven by XML 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n also deal with messages direct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X parser. Push model. Process while recei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de size OK (45KB XML parser, generator; SOAP serializer, deserializer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ES, UDP connecto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operates with WinXP SOAP Toolkit 3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plements SOAP 1.1 and SOAP 1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 and server, P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uns over HTTP and UDP with encryption (AE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S-Routing – service path description; replaces HTTP sess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ext parsing consumes CPU and pow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erbose. Compres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251460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rop unnecessary protocol lay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743200" y="26974800"/>
            <a:ext cx="11887200" cy="8001000"/>
            <a:chOff x="2743200" y="26974800"/>
            <a:chExt cx="11887200" cy="8001000"/>
          </a:xfrm>
        </p:grpSpPr>
        <p:grpSp>
          <p:nvGrpSpPr>
            <p:cNvPr id="46" name=""/>
            <p:cNvGrpSpPr/>
            <p:nvPr/>
          </p:nvGrpSpPr>
          <p:grpSpPr>
            <a:xfrm>
              <a:off x="2743200" y="26974800"/>
              <a:ext cx="11887200" cy="8001000"/>
              <a:chOff x="2743200" y="26974800"/>
              <a:chExt cx="11887200" cy="8001000"/>
            </a:xfrm>
          </p:grpSpPr>
          <p:sp>
            <p:nvSpPr>
              <p:cNvPr id="47" name=""/>
              <p:cNvSpPr/>
              <p:nvPr/>
            </p:nvSpPr>
            <p:spPr>
              <a:xfrm>
                <a:off x="2743200" y="26974800"/>
                <a:ext cx="11887200" cy="8001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00400" y="27356040"/>
                <a:ext cx="10871280" cy="167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45000" bIns="45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</a:rPr>
                  <a:t>SOAP exampl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end calculator add request from PC through HTTP to NTU simulator and ask it to forward to EB63 board using encrypted UDP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3048120" y="29184840"/>
              <a:ext cx="11505960" cy="55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SOAP-ENV:Envelope xmlns:SOAP-ENV="http://schemas.xmlsoap.org/soap/envelope/"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SOAP-ENV:Header SOAP-ENV:encodingStyle="http://schemas.xmlsoap.org/soap/encoding/"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:Path xmlns:m="http://schemas.xmlsoap.org/ws/2002/05/routing"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:Action&gt;http://tempuri.org/Calc/action/Calc.&lt;/m:Actio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:Fwd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:Via&gt;http://172.31.46.26/SOAP/&lt;/m:Via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:Via&gt;x-udp-aes-soap://172.31.41.244/SSOAP/COB/calc.cob&lt;/m:Via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m:Fwd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:Rev&gt;&lt;m:Via Vid="1"/&gt;&lt;/m:Rev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m:Path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SOAP-ENV:Header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SOAP-ENV:Body SOAP-ENV:encodingStyle="http://schemas.xmlsoap.org/soap/encoding/"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:Add xmlns:m="http://tempuri.org/Calc/message/"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A&gt;14&lt;/A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B&gt;28&lt;/B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m:Add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SOAP-ENV:Body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8200"/>
                  <a:tab algn="l" pos="1600200"/>
                  <a:tab algn="l" pos="2408400"/>
                  <a:tab algn="l" pos="332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SOAP-ENV:Envelope&gt; 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706840" y="7182000"/>
            <a:ext cx="11887200" cy="8610480"/>
            <a:chOff x="2706840" y="7182000"/>
            <a:chExt cx="11887200" cy="8610480"/>
          </a:xfrm>
        </p:grpSpPr>
        <p:sp>
          <p:nvSpPr>
            <p:cNvPr id="51" name=""/>
            <p:cNvSpPr/>
            <p:nvPr/>
          </p:nvSpPr>
          <p:spPr>
            <a:xfrm>
              <a:off x="2706840" y="7182000"/>
              <a:ext cx="11887200" cy="8610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16680" y="7562880"/>
              <a:ext cx="10870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Invisible Comput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35440" y="8401320"/>
              <a:ext cx="11147400" cy="71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veryday Devi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ip makes them bet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ic autonomous op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ed value from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ten battery oper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vice-centered, user controll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vices communicate.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combination &gt; Σ par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mall Component Based R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tandard protoc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ample Application Area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arable Computer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dical electronics de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sor network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dustrial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evator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me appliances, security, ligh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botic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reless communication gadg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y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mposed PC, smart I/O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685800"/>
                  <a:tab algn="l" pos="5608800"/>
                  <a:tab algn="l" pos="5837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8357840" y="7182000"/>
            <a:ext cx="11887200" cy="7543800"/>
            <a:chOff x="18357840" y="7182000"/>
            <a:chExt cx="11887200" cy="7543800"/>
          </a:xfrm>
        </p:grpSpPr>
        <p:grpSp>
          <p:nvGrpSpPr>
            <p:cNvPr id="55" name=""/>
            <p:cNvGrpSpPr/>
            <p:nvPr/>
          </p:nvGrpSpPr>
          <p:grpSpPr>
            <a:xfrm>
              <a:off x="18357840" y="7182000"/>
              <a:ext cx="11887200" cy="7543800"/>
              <a:chOff x="18357840" y="7182000"/>
              <a:chExt cx="11887200" cy="7543800"/>
            </a:xfrm>
          </p:grpSpPr>
          <p:sp>
            <p:nvSpPr>
              <p:cNvPr id="56" name=""/>
              <p:cNvSpPr/>
              <p:nvPr/>
            </p:nvSpPr>
            <p:spPr>
              <a:xfrm>
                <a:off x="18357840" y="7182000"/>
                <a:ext cx="11887200" cy="7543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930960" y="7697880"/>
                <a:ext cx="1087092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45000" bIns="45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</a:rPr>
                  <a:t>Operating System Architectur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579960" y="9558360"/>
                <a:ext cx="1114740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45000" bIns="450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18662400" y="8553600"/>
              <a:ext cx="9677520" cy="54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omponent Bas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s every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 interf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ified name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interfaces implemented by many 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ple implementations of any 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pecialized to tas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y as you 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te binding and mu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aptive to changing 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eal-time scheduling with application feedba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ML based configuration and communic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uns on several hardware platfor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0"/>
            <a:ext cx="32918400" cy="5257800"/>
          </a:xfrm>
          <a:prstGeom prst="rect">
            <a:avLst/>
          </a:prstGeom>
          <a:gradFill rotWithShape="0">
            <a:gsLst>
              <a:gs pos="0">
                <a:srgbClr val="0036a2"/>
              </a:gs>
              <a:gs pos="100000">
                <a:srgbClr val="4169b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994640" y="3471120"/>
            <a:ext cx="32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5000" bIns="450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25440" y="3048120"/>
            <a:ext cx="8852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833560"/>
            <a:ext cx="329184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crosoft Resear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918400" cy="26589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Microsoft Invisible Comput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743200" y="36437760"/>
            <a:ext cx="11887200" cy="4953240"/>
            <a:chOff x="2743200" y="36437760"/>
            <a:chExt cx="11887200" cy="4953240"/>
          </a:xfrm>
        </p:grpSpPr>
        <p:grpSp>
          <p:nvGrpSpPr>
            <p:cNvPr id="66" name=""/>
            <p:cNvGrpSpPr/>
            <p:nvPr/>
          </p:nvGrpSpPr>
          <p:grpSpPr>
            <a:xfrm>
              <a:off x="2743200" y="36437760"/>
              <a:ext cx="11887200" cy="4953240"/>
              <a:chOff x="2743200" y="36437760"/>
              <a:chExt cx="11887200" cy="4953240"/>
            </a:xfrm>
          </p:grpSpPr>
          <p:sp>
            <p:nvSpPr>
              <p:cNvPr id="67" name=""/>
              <p:cNvSpPr/>
              <p:nvPr/>
            </p:nvSpPr>
            <p:spPr>
              <a:xfrm>
                <a:off x="2743200" y="36437760"/>
                <a:ext cx="11887200" cy="4953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011400" y="37539720"/>
                <a:ext cx="10802880" cy="36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WS-Routing provides service level routing of SOAP messag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ne-w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P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2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symmetric messag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hema converter (inter-version service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tocol conver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Provides header for object URL, continuation passin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16320" y="36666360"/>
                <a:ext cx="1087128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45000" bIns="45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</a:rPr>
                  <a:t>WS-Routing example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5289480" y="38165040"/>
              <a:ext cx="3200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9158400" y="39708000"/>
              <a:ext cx="50292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9158400" y="38165040"/>
              <a:ext cx="50292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18546840" y="31767480"/>
            <a:ext cx="111474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000" y="40655880"/>
            <a:ext cx="11147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28960" y="19705680"/>
            <a:ext cx="111474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579960" y="36282240"/>
            <a:ext cx="11147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8357840" y="33465960"/>
            <a:ext cx="11887200" cy="7925040"/>
            <a:chOff x="18357840" y="33465960"/>
            <a:chExt cx="11887200" cy="7925040"/>
          </a:xfrm>
        </p:grpSpPr>
        <p:sp>
          <p:nvSpPr>
            <p:cNvPr id="78" name=""/>
            <p:cNvSpPr/>
            <p:nvPr/>
          </p:nvSpPr>
          <p:spPr>
            <a:xfrm>
              <a:off x="18357840" y="33465960"/>
              <a:ext cx="11887200" cy="7925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8662760" y="33863040"/>
              <a:ext cx="11001240" cy="7331400"/>
              <a:chOff x="18662760" y="33863040"/>
              <a:chExt cx="11001240" cy="7331400"/>
            </a:xfrm>
          </p:grpSpPr>
          <p:sp>
            <p:nvSpPr>
              <p:cNvPr id="80" name=""/>
              <p:cNvSpPr/>
              <p:nvPr/>
            </p:nvSpPr>
            <p:spPr>
              <a:xfrm>
                <a:off x="18792720" y="33863040"/>
                <a:ext cx="1087128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45000" bIns="45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</a:rPr>
                  <a:t>Statu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662760" y="34763040"/>
                <a:ext cx="10972800" cy="64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Source will be available soon (beta now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ARM (several versions), i386, H8, MIPS, TriMedia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ap1000, 68k.  MMU optiona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Several development boards. Smart I/O card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Develop code on simulator under Window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 indent="6048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ource level debugging of all system features except true Real-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 indent="60480">
                  <a:lnSpc>
                    <a:spcPct val="100000"/>
                  </a:lnSpc>
                  <a:tabLst>
                    <a:tab algn="l" pos="0"/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nder Visual Studio. Supports full speed emu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 indent="6048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ycle-accurate simulators for ARM and TriMed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 indent="60480"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se whatever tools available for device   → native debuggers often wea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Sizes e.g. 10KB, 20KB on ARM; 26KB, 160KB on x86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Depends on configur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Web services run on eb63 board (low-end ARM, 256KB RAM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Power e.g. 40mW on 5x7 cm 2.8V ARM board with LC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28600"/>
                    <a:tab algn="l" pos="63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when playing a simple game (snake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3129120" y="17794440"/>
            <a:ext cx="11160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ecure Web Services for Invisible Comp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8840" y="3592440"/>
            <a:ext cx="320295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essandro Forin, Johannes Helander, Amit Vyas, Yong Xio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160840" y="15771960"/>
            <a:ext cx="14632200" cy="11576520"/>
            <a:chOff x="17160840" y="15771960"/>
            <a:chExt cx="14632200" cy="11576520"/>
          </a:xfrm>
        </p:grpSpPr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17160840" y="15771960"/>
              <a:ext cx="14632200" cy="1005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9835640" y="25611120"/>
              <a:ext cx="850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 Invisible Computing Scenari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569160" y="21958200"/>
              <a:ext cx="250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oper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741680" y="24328440"/>
              <a:ext cx="300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ndwid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n-graphical U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ero-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7160840" y="29028960"/>
            <a:ext cx="13914360" cy="2613240"/>
            <a:chOff x="17160840" y="29028960"/>
            <a:chExt cx="13914360" cy="2613240"/>
          </a:xfrm>
        </p:grpSpPr>
        <p:sp>
          <p:nvSpPr>
            <p:cNvPr id="90" name=""/>
            <p:cNvSpPr/>
            <p:nvPr/>
          </p:nvSpPr>
          <p:spPr>
            <a:xfrm>
              <a:off x="22442400" y="30938760"/>
              <a:ext cx="363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emo Setu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6"/>
            <a:stretch/>
          </p:blipFill>
          <p:spPr>
            <a:xfrm>
              <a:off x="17160840" y="29028960"/>
              <a:ext cx="139143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6:33:46Z</dcterms:created>
  <dc:creator>jvh</dc:creator>
  <dc:description/>
  <dc:language>en-US</dc:language>
  <cp:lastModifiedBy>jvh</cp:lastModifiedBy>
  <cp:lastPrinted>2001-11-05T22:51:27Z</cp:lastPrinted>
  <dcterms:modified xsi:type="dcterms:W3CDTF">2002-07-29T22:02:07Z</dcterms:modified>
  <cp:revision>79</cp:revision>
  <dc:subject/>
  <dc:title>Invisible Computing, Faculty Summit 20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9679622</vt:r8>
  </property>
  <property fmtid="{D5CDD505-2E9C-101B-9397-08002B2CF9AE}" pid="3" name="_AuthorEmail">
    <vt:lpwstr>jvh@microsoft.com</vt:lpwstr>
  </property>
  <property fmtid="{D5CDD505-2E9C-101B-9397-08002B2CF9AE}" pid="4" name="_AuthorEmailDisplayName">
    <vt:lpwstr>Johannes Helander</vt:lpwstr>
  </property>
  <property fmtid="{D5CDD505-2E9C-101B-9397-08002B2CF9AE}" pid="5" name="_EmailSubject">
    <vt:lpwstr/>
  </property>
</Properties>
</file>