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71C-3D69-4BDC-86B1-504C97D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2798136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8520" y="26435520"/>
            <a:ext cx="2798136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257-C653-4EB8-A8FC-E365678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0660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68520" y="2643552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06600" y="2643552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C62-A204-4AC5-8AFF-40D8057C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28960" y="1268100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89760" y="1268100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68520" y="2643552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28960" y="2643552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89760" y="26435520"/>
            <a:ext cx="900972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A90-D669-4601-B30B-5D26BD18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68520" y="12681000"/>
            <a:ext cx="27981360" cy="263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9D7-E832-4753-98F6-F5807FB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2798136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C50-81F5-482D-91A7-76A469DF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1365480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06600" y="12681000"/>
            <a:ext cx="1365480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0A4-58C6-4811-85DE-A0F13AF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D9E-C9E4-48FF-A56B-C155648B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903840"/>
            <a:ext cx="3291840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7E9-5A8E-4CD2-8D7A-384D5E3E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06600" y="12681000"/>
            <a:ext cx="1365480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68520" y="2643552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783-7EA5-4009-81CD-922CFF7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1365480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0660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06600" y="2643552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419-D290-421F-B397-C6ADF8F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6852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06600" y="12681000"/>
            <a:ext cx="1365480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8520" y="26435520"/>
            <a:ext cx="27981360" cy="12560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916-E285-4FA8-AEAD-183B19B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9038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12681000"/>
            <a:ext cx="27981360" cy="263332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rmAutofit/>
          </a:bodyPr>
          <a:p>
            <a:pPr marL="1644480" indent="-164448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4960" indent="-109728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77000" indent="-109512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8740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8740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8740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39990600"/>
            <a:ext cx="6858000" cy="29275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Autofit/>
          </a:bodyPr>
          <a:lstStyle>
            <a:lvl1pPr indent="0">
              <a:buNone/>
              <a:tabLst>
                <a:tab algn="l" pos="0"/>
                <a:tab algn="l" pos="4387680"/>
                <a:tab algn="l" pos="8775720"/>
              </a:tabLst>
              <a:defRPr b="0" lang="en-US" sz="6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9990600"/>
            <a:ext cx="10423440" cy="29275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Autofit/>
          </a:bodyPr>
          <a:lstStyle>
            <a:lvl1pPr indent="0" algn="ctr">
              <a:buNone/>
              <a:tabLst>
                <a:tab algn="l" pos="0"/>
                <a:tab algn="l" pos="4387680"/>
                <a:tab algn="l" pos="8775720"/>
              </a:tabLst>
              <a:defRPr b="0" lang="en-US" sz="6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9990600"/>
            <a:ext cx="6858000" cy="29275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t">
            <a:noAutofit/>
          </a:bodyPr>
          <a:lstStyle>
            <a:lvl1pPr indent="0" algn="r">
              <a:buNone/>
              <a:tabLst>
                <a:tab algn="l" pos="0"/>
                <a:tab algn="l" pos="4387680"/>
                <a:tab algn="l" pos="8775720"/>
              </a:tabLst>
              <a:defRPr b="0" lang="en-US" sz="6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87680"/>
                <a:tab algn="l" pos="8775720"/>
              </a:tabLst>
            </a:pPr>
            <a:fld id="{916B3C6C-3ABF-4BE8-B7C3-411E0FCA3B65}" type="slidenum"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000"/>
            <a:ext cx="27424080" cy="3290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030280" y="3471840"/>
            <a:ext cx="13048920" cy="10173960"/>
            <a:chOff x="14030280" y="3471840"/>
            <a:chExt cx="13048920" cy="10173960"/>
          </a:xfrm>
        </p:grpSpPr>
        <p:sp>
          <p:nvSpPr>
            <p:cNvPr id="43" name=""/>
            <p:cNvSpPr/>
            <p:nvPr/>
          </p:nvSpPr>
          <p:spPr>
            <a:xfrm>
              <a:off x="14030280" y="3471840"/>
              <a:ext cx="12947040" cy="10173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085360" y="4468320"/>
              <a:ext cx="12993840" cy="90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High volume requires low COGs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Areas previously unavailable to .NET and GXA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lic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eet clai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Large footprint and inefficient computing makes GXA unsuitable for embedded use and specialized solutions are requir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Web services can be highly efficient while interop and extensibility make the business c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By construction. The implementation is efficient, runs on cheap microcontrollers with low footpri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er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eet clai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Parsing XML takes lots of CPU and every cycl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anojou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There is no need to transmit ASCII strings as long as the compression is isomorphic to textual XM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Prototype pre-tokenized format (multiple versions available) avoids unnecessary conversions.          Non-lossy representation is not too diffic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smart about turning off radio when not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nd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eet clai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SOAP is bloated and wastes bandwi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The data can be compressed and delta-encoded while still preserving the virtu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Prototype template-based compressor provides encoding isomorphic to textual XM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op unnecessary protocol layers such as HTT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ork in 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grate compressed XML with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ize solutions in key distribution, mobility, discov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30280" y="3697560"/>
              <a:ext cx="12947040" cy="7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3333cc"/>
                  </a:solidFill>
                  <a:latin typeface="Arial"/>
                </a:rPr>
                <a:t>Challenges: Silicon, energy, bandwidth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5598800" y="7853400"/>
            <a:ext cx="11221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5880" y="3471840"/>
            <a:ext cx="11895120" cy="9593280"/>
            <a:chOff x="515880" y="3471840"/>
            <a:chExt cx="11895120" cy="9593280"/>
          </a:xfrm>
        </p:grpSpPr>
        <p:sp>
          <p:nvSpPr>
            <p:cNvPr id="48" name=""/>
            <p:cNvSpPr/>
            <p:nvPr/>
          </p:nvSpPr>
          <p:spPr>
            <a:xfrm>
              <a:off x="523800" y="3471840"/>
              <a:ext cx="11887200" cy="8997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5880" y="3795840"/>
              <a:ext cx="11488680" cy="7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3333cc"/>
                  </a:solidFill>
                  <a:latin typeface="Arial"/>
                </a:rPr>
                <a:t>Invisible Computing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2400" y="4503600"/>
              <a:ext cx="11147400" cy="85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>
                <a:tabLst>
                  <a:tab algn="l" pos="0"/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mputers that are not visible. No install or setup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Enhance Everyday Devic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 primarily a computer. The computer just makes it bet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cal devices plus networked microcontroll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ic autonomous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ed value from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ten battery oper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Device-centered, user controlled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Devices communicate: </a:t>
              </a:r>
              <a:r>
                <a:rPr b="0" i="1" lang="en-US" sz="3300" spc="-1" strike="noStrike">
                  <a:solidFill>
                    <a:srgbClr val="000000"/>
                  </a:solidFill>
                  <a:latin typeface="Times New Roman"/>
                </a:rPr>
                <a:t>combination &gt; Σ par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Small Component Based RTO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Standard protocols – tuned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Sample Application Areas: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me appliances, security, lighting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  Family Information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arable Computer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dical electronics de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 network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botics, Industrial Control, Elev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dio Ne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reless communication gadg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y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aggregated PC, smart I/O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4360"/>
                  <a:tab algn="l" pos="5607000"/>
                  <a:tab algn="l" pos="583740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4030280" y="18923040"/>
            <a:ext cx="13049280" cy="13213800"/>
            <a:chOff x="14030280" y="18923040"/>
            <a:chExt cx="13049280" cy="13213800"/>
          </a:xfrm>
        </p:grpSpPr>
        <p:sp>
          <p:nvSpPr>
            <p:cNvPr id="52" name=""/>
            <p:cNvSpPr/>
            <p:nvPr/>
          </p:nvSpPr>
          <p:spPr>
            <a:xfrm>
              <a:off x="14030280" y="18923040"/>
              <a:ext cx="13049280" cy="1321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030280" y="19321200"/>
              <a:ext cx="13049280" cy="7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3333cc"/>
                  </a:solidFill>
                  <a:latin typeface="Arial"/>
                </a:rPr>
                <a:t>System Architecture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266800" y="20085840"/>
              <a:ext cx="12812760" cy="119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he web services and applications are supported by a small R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Combines the good of general-purpose and special-purpose system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l purpose in the abstract. Code and interface reu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al in the concrete. Only take what you ne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Component Based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s every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 inte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ified name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interfaces implemented by many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ple implementations of any 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Specialized to task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y as you 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te binding and mu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aptive to changing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Real-time scheduling with application feedback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XML based configuration and communicatio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Targeted to microcontroller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Runs on several hardware platform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M (many), i386, H8, MIPS, TriMedia, Map1000, 68k, eCO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MU op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erous development boards. Prototype gadgets. Smart I/O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ROM sizes e.g. 10KB, 20KB on ARM; 26KB, 160KB on x8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Depends on configuratio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Power e.g. 40mW on 5x7 cm 2.8V ARM board with LCD when playing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a simple game (snake)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0"/>
            <a:ext cx="27424080" cy="3048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933360" y="3048120"/>
            <a:ext cx="1384920" cy="1177560"/>
            <a:chOff x="21933360" y="3048120"/>
            <a:chExt cx="1384920" cy="1177560"/>
          </a:xfrm>
        </p:grpSpPr>
        <p:sp>
          <p:nvSpPr>
            <p:cNvPr id="57" name=""/>
            <p:cNvSpPr/>
            <p:nvPr/>
          </p:nvSpPr>
          <p:spPr>
            <a:xfrm>
              <a:off x="22996800" y="3480120"/>
              <a:ext cx="3214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5000" bIns="450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87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33360" y="3048120"/>
              <a:ext cx="8701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424080" cy="2255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240" bIns="21924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eb Services for Invisible Compu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546840" y="31768920"/>
            <a:ext cx="11150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3800" y="40657320"/>
            <a:ext cx="11147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30400" y="19705680"/>
            <a:ext cx="11145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581760" y="36284040"/>
            <a:ext cx="11145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6120" y="12876120"/>
            <a:ext cx="11887200" cy="7956000"/>
            <a:chOff x="546120" y="12876120"/>
            <a:chExt cx="11887200" cy="7956000"/>
          </a:xfrm>
        </p:grpSpPr>
        <p:sp>
          <p:nvSpPr>
            <p:cNvPr id="65" name=""/>
            <p:cNvSpPr/>
            <p:nvPr/>
          </p:nvSpPr>
          <p:spPr>
            <a:xfrm>
              <a:off x="546120" y="12876120"/>
              <a:ext cx="11887200" cy="7689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0960" y="13656960"/>
              <a:ext cx="11682360" cy="71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Interoperates with ASP+ and SOAP Toolki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on Windows XP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s SOAP 1.1, SOAP 1.2, and WS-Messa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COM-Lite automation driven by XML descriptio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lection &amp; serialization to and from C and 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also deal with messages direct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SAX parser. Push model. Process while receiving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ares buffers with network stack. Zero copy networki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Client and server, P2P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Runs over HTTP and/or UDP with encryption (AES)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S-Routing – service path description; replaces HTTP s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Complete TCP/IP, HTTP, SOAP, Automation, RTOS (dynamic memory, threads, etc), drivers, application with complex data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"/>
                <a:tabLst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Runs in 32KB of RAM, 200KB of ROM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ss if not all components required. Footprint depends on needs. TCP/IP is biggest ho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51604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6120" y="13079160"/>
              <a:ext cx="11682360" cy="7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3333cc"/>
                  </a:solidFill>
                  <a:latin typeface="Arial"/>
                </a:rPr>
                <a:t>Secure Web Services for Invisible Computing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2023920"/>
            <a:ext cx="274240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Johannes Helander, Alessandro Forin, Invisible Computing Group, MS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28800" y="15333840"/>
            <a:ext cx="13915800" cy="2565720"/>
            <a:chOff x="13528800" y="15333840"/>
            <a:chExt cx="13915800" cy="2565720"/>
          </a:xfrm>
        </p:grpSpPr>
        <p:sp>
          <p:nvSpPr>
            <p:cNvPr id="70" name=""/>
            <p:cNvSpPr/>
            <p:nvPr/>
          </p:nvSpPr>
          <p:spPr>
            <a:xfrm>
              <a:off x="17300520" y="17183160"/>
              <a:ext cx="521820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</a:rPr>
                <a:t>Demo Setup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3528800" y="15333840"/>
              <a:ext cx="13915800" cy="17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-212760" y="21010680"/>
            <a:ext cx="14631840" cy="11731320"/>
            <a:chOff x="-212760" y="21010680"/>
            <a:chExt cx="14631840" cy="1173132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-212760" y="21010680"/>
              <a:ext cx="14631840" cy="104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050920" y="31325760"/>
              <a:ext cx="85028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</a:rPr>
                <a:t>An Invisible Computing Scenario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0160" y="27166680"/>
              <a:ext cx="250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72800" y="29724120"/>
              <a:ext cx="300528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86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n-graphical 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ero-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64040" y="25847280"/>
              <a:ext cx="1273320" cy="396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Bookman"/>
                </a:rPr>
                <a:t>VC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6:33:46Z</dcterms:created>
  <dc:creator>jvh</dc:creator>
  <dc:description/>
  <dc:language>en-US</dc:language>
  <cp:lastModifiedBy>jvh</cp:lastModifiedBy>
  <cp:lastPrinted>2001-11-05T22:51:27Z</cp:lastPrinted>
  <dcterms:modified xsi:type="dcterms:W3CDTF">2003-02-24T21:44:01Z</dcterms:modified>
  <cp:revision>135</cp:revision>
  <dc:subject/>
  <dc:title>Invisible Computing, Faculty Summit 2002</dc:title>
</cp:coreProperties>
</file>