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DDC-D70B-48DA-89F1-B443070F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180-0319-4BD2-A209-C061495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DB6-1EB0-45C7-A2DC-FF43E08A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06F-C2AA-4239-8014-C5A93664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015-C5F1-4AC5-B363-741DDF1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CD8-0AFA-4AB3-934C-27AEA5B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702-324F-4FD1-9748-33B185B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436-D892-4D73-A7C0-D09663D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52F-A801-40A3-B961-2911D62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DDD-D858-4E9F-8A3D-B4FD9EDF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256-5A8E-4736-BC3C-A1CA6CD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BBF-F43D-42E3-8132-5D54575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46B8-065C-4415-AF8C-C9B3A8A7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Lit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 I: The Gosp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Favorite Pr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art real-time (Time Constr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do your own if you don’t like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exes (locks), Condition Variables, lock-fre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established in acad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and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ly defined interactions with scheduling and tim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uild all other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. Herli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n top (events, semaphores,monitors,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ice Driv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ord: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with what is provided, cannot port VC to all proc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DLLs by hand, if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is ANSI-C, no MSFT “extensi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 on simulators (NT&amp;VC,vendor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simulators with full-system simulation (peripheral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: Instructions for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from n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the initialization code, pleas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 heap manager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ad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go a-la carte, including VM &amp; 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&amp; MachDep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D code gets control first, then calls the MI Initialization functi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init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ould do its ow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8\_kinit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D code lives separately, can be mac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D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it strongly expects MD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D code filenames start with “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 code in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bit math, unl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64XXX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schedul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&amp; thread creati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thread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AndSwap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atomic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t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pic.c,_timer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 I/O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debug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up initializati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_start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p 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provides the IHeap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vious, pl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trac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List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p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map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m_heap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Only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_heap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from thread manager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ad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from synchronizati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tex.c, condtn.c, atomic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xposed in NameSpace (for now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_sche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Robin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r_sche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, placeholder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_sche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or ask Equator for the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never make them all happ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replace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*I* need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opt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architectural restrictions (MMU, interrupts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should not mandate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h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it as an extensible directory, or a filing system for liv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NameSpac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in Base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spc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-Load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b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ystem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mfs.c, memdev.c, drivers/fatfs.c, mips/_hostfs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ly part of IProcess/I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F for ARM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m_ldr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F for MIPS and Equator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f_ldr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for TriMedia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fe_ldr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for x86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_ldr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M &amp;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on-demand loadabl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M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c/v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ea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list for r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(instead of 2) separate concepts - virtual address, TLB, and physica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MFactory, IVMSpace, IVMMapping, IVMView, IVT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C is work-in-progres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c/ip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rupts &amp; I/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Device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adds and removes IS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PCs, no priorities, no n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R takes an object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R can o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InterruptSignal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Queues are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M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T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L-style linking into 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ated but necessary for sharing the compiler’s builtins and for bootstrapping e.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XXX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omicXXX, MutexXXX, ConditionXXX, Constraints, Sleep/Dela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ther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I C stdio/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as a static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ly used for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inor o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ing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D4.4Lit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P,TCP,MCAST,IGMP,Routing,DHCP,DNS,U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: XNS,CCITT,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sock 1.1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e interfaces (IEndPoint/INetDe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trimming and interface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ice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 sample drivers, real-time safe, for typical PC periph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vice/INetDevice interfaces, derive from I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 and C++, common base class code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onfig example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I, audio, GbEthernet, host pkt interfac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 styl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in the Talisman CD (Direct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s are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ll created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tuning is a system-wide exercise...no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might require VM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 Namespace &amp; programm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or just use your regul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(argc,arg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is code + static data + a number of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modularity: formal interfaces, multiple implementations, configurability, replaceabilit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ized system is easily sca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alism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480" y="6480"/>
          <a:ext cx="9131040" cy="688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6480"/>
                    <a:ext cx="913104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urce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publish their interfaces in the 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MLite/i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 and private includes ..are somewhere under 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ML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s&amp;co under 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we own (&amp;sources) are under 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MLite/msto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scripts drive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kall.bat, mkit.b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rocessor makefiles (e.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m.m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with lo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on.m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direct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m.m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includes the top lev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m.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variables: MMLITE_SDK, BUILD_ROOT, ARM_TOOLS, K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little regression test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c/te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ne is pass/fail [cal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bugBreak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un in sequence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tests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or by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tartup code will run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.ex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run Doom you are not doo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driver for intelligent I/O cards (Alteon&amp;Phil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atapump (ucode) for GbEther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Interface and NDIS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and debugg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Spin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packet driver for NT-based si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Objects Objec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die young or live very, very long lives =&gt; Software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LL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dynamic over static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posed Mess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e of code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Compo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” is a very ba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-up is easy, scale-down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minimal” set of objects/APIs depends on your whole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tatic and dynamic configurability are necessary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nd modularity are differ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M and IPC are loaded on-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Model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nfig must still be us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don’t like f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ing is not that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assiv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O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refcounting (unmanaged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nknown is useful per-se (Namesp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checked and ver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but we don’t need the whole enchi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gistry, CoCreateInstance, Class IIDs, IIDs as names, IDispatch, Monikers,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orm naming (instead of Registry, Filesystems, Device trees, Web, ….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ist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IUnknown of an object in the NameSpa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n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t from somewhere else and you got an I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n INameSpace to extend the 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age simple tool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,type,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S cannot be language-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supports unmanaged (C/C++)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Ms are implemented on top (UR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it upsy-turvy has been proven wrong (Inferno, JavaMachin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9:19:04Z</dcterms:created>
  <dc:creator>sandrof</dc:creator>
  <dc:description/>
  <dc:language>en-US</dc:language>
  <cp:lastModifiedBy>jvh</cp:lastModifiedBy>
  <dcterms:modified xsi:type="dcterms:W3CDTF">2002-04-04T02:20:10Z</dcterms:modified>
  <cp:revision>45</cp:revision>
  <dc:subject/>
  <dc:title>MMLite: The Gospel</dc:title>
</cp:coreProperties>
</file>