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520" y="301068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76200" y="191880"/>
            <a:ext cx="839304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699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89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0520" y="301068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89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1660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5268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8052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1660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5268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89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380520" y="1150920"/>
            <a:ext cx="8388360" cy="35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838836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376200" y="191880"/>
            <a:ext cx="839304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699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89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0520" y="301068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89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60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268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52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60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268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1660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5268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38052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1660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5268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1150920"/>
            <a:ext cx="8388360" cy="35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838836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76200" y="191880"/>
            <a:ext cx="839304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699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520" y="1150920"/>
            <a:ext cx="8388360" cy="35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89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520" y="301068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89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660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5268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52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660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5268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C3DB-35EB-4965-8A71-462A930E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150920"/>
            <a:ext cx="8388360" cy="35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18E-051E-4481-A4E7-464CAE5F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838836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B678-FC6E-4B55-BB57-F32596C2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DE8-4F04-43E1-9F4A-2CD67B78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DF4-8105-4943-A893-2F9B0DA6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838836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76200" y="191880"/>
            <a:ext cx="839304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699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025-D1BB-42C4-90C9-6F391BA4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73F-2ECE-439A-8E30-501C3A05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89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B19-B2EA-4A04-A5EE-52DE9BC4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5A32-5CB2-41DD-8ABD-0851CE79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01068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8CF2-D27E-4F56-B288-D667DB6D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89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0B02-B1EB-4B7F-B906-0E26ACD0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1660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5268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1660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5268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6088-07B4-4D02-B602-F236EB89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5CCB-FAD4-462C-A0A8-3DFD4976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80520" y="1150920"/>
            <a:ext cx="8388360" cy="35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9E77-394A-4AC6-A29C-D739237B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838836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75F5-0DF3-44AF-AB05-E4B2E136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EE78-B086-4251-BEF1-11C41980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1D3E-2FF8-4A4F-81FE-735A93A1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76200" y="191880"/>
            <a:ext cx="839304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699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1B22-28AC-45CC-94A6-F4FDBB90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A2C7-4745-4AE6-8266-0B4F4E06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89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D4F9-EB73-4CD9-9DDB-4F8E071B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0150-18D0-4CD0-B4DD-B2020A94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0520" y="301068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9224-75C8-4D92-AF26-C26A6048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89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6F50-8984-4D2F-A394-05A4011A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1660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5268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8052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1660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5268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75B5-0A4B-434B-8C83-FD97CB06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D01BE-22DB-402B-BE18-AA3873B4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80520" y="1150920"/>
            <a:ext cx="8388360" cy="35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74589-4877-4B66-86E1-4E5853BA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838836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B96D3-94FD-4B2D-BDF7-E0438B0B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A6E42-FA7F-44E2-BFE2-E4F939F9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1461B-412E-4177-9D14-4BF77C81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76200" y="191880"/>
            <a:ext cx="839304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699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B97BF-93A4-48D8-80FF-A93087AE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A756C-DAB1-404C-AA7E-43C4075C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89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D55BB-1420-4905-8607-E8146A4C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7C27A-6ECD-4718-B3F1-A11D414A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0520" y="301068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B114F-69D8-4E06-A9C0-4F6D6043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89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1DF19-2FDD-4A03-9944-587F2EB2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76200" y="191880"/>
            <a:ext cx="839304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699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1660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5268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8052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1660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5268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355B1-470D-419B-B478-80D34F36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5F6E1-E421-4750-B2BB-45EEC9F8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80520" y="1150920"/>
            <a:ext cx="8388360" cy="35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78C58-8EB9-4DF7-9660-A2EFD109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838836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4CE90-1D5A-4DD2-B135-8EA1FCC9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8FA9A-6066-4EDA-819D-7D773490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6510F-473D-4AA7-8593-FC6FB125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76200" y="191880"/>
            <a:ext cx="839304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699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F433A-4BC6-4523-B59B-1885736C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221F9-2DD2-4C81-BD9F-01869AE1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89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1FE2B-ABAB-4B6D-B49A-E05D002E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7FADE-494B-4E18-A134-A95111B5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0520" y="301068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13908-0754-4FAF-8290-C0331C3C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89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5893B-A64D-4185-986A-F6D4474B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1660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5268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8052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1660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5268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726DD-DF21-427A-B24E-7042924F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380520" y="1150920"/>
            <a:ext cx="8388360" cy="35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838836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376200" y="191880"/>
            <a:ext cx="839304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699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89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89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80520" y="301068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89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1660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5268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38052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1660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5268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80520" y="1150920"/>
            <a:ext cx="8388360" cy="35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838836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76200" y="191880"/>
            <a:ext cx="839304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699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89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80520" y="3010680"/>
            <a:ext cx="838836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8920" y="115092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805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8920" y="3010680"/>
            <a:ext cx="40932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1660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52680" y="115092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8052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1660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52680" y="3010680"/>
            <a:ext cx="270072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80520" y="1150920"/>
            <a:ext cx="8388360" cy="35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838836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6200" y="189000"/>
            <a:ext cx="8391600" cy="601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150920"/>
            <a:ext cx="838836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884160" indent="-38412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228680" indent="-342720">
              <a:lnSpc>
                <a:spcPts val="2699"/>
              </a:lnSpc>
              <a:spcAft>
                <a:spcPts val="1400"/>
              </a:spcAft>
              <a:buClr>
                <a:srgbClr val="000000"/>
              </a:buClr>
              <a:buSzPct val="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3" marL="1533600" indent="-303120">
              <a:lnSpc>
                <a:spcPts val="2699"/>
              </a:lnSpc>
              <a:spcAft>
                <a:spcPts val="1400"/>
              </a:spcAft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indent="-284040">
              <a:lnSpc>
                <a:spcPts val="2699"/>
              </a:lnSpc>
              <a:spcAft>
                <a:spcPts val="1400"/>
              </a:spcAft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 indent="-284040">
              <a:lnSpc>
                <a:spcPts val="2699"/>
              </a:lnSpc>
              <a:spcAft>
                <a:spcPts val="1400"/>
              </a:spcAft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 indent="-284040">
              <a:lnSpc>
                <a:spcPts val="2699"/>
              </a:lnSpc>
              <a:spcAft>
                <a:spcPts val="1400"/>
              </a:spcAft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47720" y="1420560"/>
            <a:ext cx="7672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7720" y="1420560"/>
            <a:ext cx="7672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699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lnSpc>
                <a:spcPts val="25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85960" algn="ctr">
              <a:lnSpc>
                <a:spcPts val="1998"/>
              </a:lnSpc>
              <a:spcAft>
                <a:spcPts val="601"/>
              </a:spcAft>
              <a:buClr>
                <a:srgbClr val="000000"/>
              </a:buClr>
              <a:buSzPct val="3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230480" algn="ctr">
              <a:lnSpc>
                <a:spcPts val="1800"/>
              </a:lnSpc>
              <a:spcAft>
                <a:spcPts val="601"/>
              </a:spcAft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i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4" marL="1544760" algn="ctr">
              <a:lnSpc>
                <a:spcPts val="1800"/>
              </a:lnSpc>
              <a:spcAft>
                <a:spcPts val="601"/>
              </a:spcAft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i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5" marL="1544760">
              <a:spcBef>
                <a:spcPts val="400"/>
              </a:spcBef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i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6" marL="1544760">
              <a:spcBef>
                <a:spcPts val="400"/>
              </a:spcBef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i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2cc6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BA42-84BE-463C-9FCB-B86662DF3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665B-C159-4826-AC13-EC98BE265B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b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fb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de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3D83-EDC6-42B9-867B-8C471ECE9632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0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fb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109E-1069-462B-9BA5-8D0F952F09ED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80520" y="142056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10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7120" y="206424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7015320" y="6068880"/>
            <a:ext cx="1690560" cy="6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76200" y="189000"/>
            <a:ext cx="8391600" cy="601560"/>
          </a:xfrm>
          <a:prstGeom prst="rect">
            <a:avLst/>
          </a:prstGeom>
          <a:solidFill>
            <a:srgbClr val="62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75840" y="191880"/>
            <a:ext cx="7193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380520" y="1150920"/>
            <a:ext cx="8388360" cy="35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884160" indent="-38412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228680" indent="-342720">
              <a:lnSpc>
                <a:spcPts val="2699"/>
              </a:lnSpc>
              <a:spcAft>
                <a:spcPts val="1400"/>
              </a:spcAft>
              <a:buClr>
                <a:srgbClr val="000000"/>
              </a:buClr>
              <a:buSzPct val="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3" marL="1533600" indent="-303120">
              <a:lnSpc>
                <a:spcPts val="2699"/>
              </a:lnSpc>
              <a:spcAft>
                <a:spcPts val="1400"/>
              </a:spcAft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indent="-284040">
              <a:lnSpc>
                <a:spcPts val="2699"/>
              </a:lnSpc>
              <a:spcAft>
                <a:spcPts val="1400"/>
              </a:spcAft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 indent="-284040">
              <a:lnSpc>
                <a:spcPts val="2699"/>
              </a:lnSpc>
              <a:spcAft>
                <a:spcPts val="1400"/>
              </a:spcAft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 indent="-284040">
              <a:lnSpc>
                <a:spcPts val="2699"/>
              </a:lnSpc>
              <a:spcAft>
                <a:spcPts val="1400"/>
              </a:spcAft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chemas.xmlsoap.org/soap/envelope/" TargetMode="External"/><Relationship Id="rId2" Type="http://schemas.openxmlformats.org/officeDocument/2006/relationships/hyperlink" Target="http://schemas.xmlsoap.org/soap/encoding/" TargetMode="External"/><Relationship Id="rId3" Type="http://schemas.openxmlformats.org/officeDocument/2006/relationships/hyperlink" Target="http://schemas.xmlsoap.org/ws/2004/08/addressing" TargetMode="External"/><Relationship Id="rId4" Type="http://schemas.openxmlformats.org/officeDocument/2006/relationships/hyperlink" Target="http://172.31.46.26/COB/calc.cob" TargetMode="External"/><Relationship Id="rId5" Type="http://schemas.openxmlformats.org/officeDocument/2006/relationships/hyperlink" Target="http://schemas.xmlsoap.org/soap/encoding/" TargetMode="External"/><Relationship Id="rId6" Type="http://schemas.openxmlformats.org/officeDocument/2006/relationships/hyperlink" Target="http://tempuri.org/Calc/message/" TargetMode="Externa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node:instigator/COB/sensormain.cob" TargetMode="External"/><Relationship Id="rId2" Type="http://schemas.openxmlformats.org/officeDocument/2006/relationships/hyperlink" Target="node:sensor/COB/sensor.cob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97120" y="726840"/>
            <a:ext cx="7346880" cy="587520"/>
          </a:xfrm>
          <a:prstGeom prst="rect">
            <a:avLst/>
          </a:prstGeom>
          <a:solidFill>
            <a:srgbClr val="ef573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Embedded XML Web Services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874880" y="2078640"/>
            <a:ext cx="7269120" cy="42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3798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Realizing a Seamless and Interoperable World through Invisible Computing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ts val="3798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ts val="2699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Johannes Helander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ts val="2699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Researcher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ts val="2699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icrosoft Research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ts val="2699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arch 2, 2005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ts val="3798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0" y="0"/>
            <a:ext cx="1855440" cy="6857640"/>
            <a:chOff x="0" y="0"/>
            <a:chExt cx="1855440" cy="685764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55440" cy="12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0" y="1271880"/>
              <a:ext cx="1855440" cy="5585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SOAP example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0880" y="1390320"/>
            <a:ext cx="876312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8600" indent="0">
              <a:lnSpc>
                <a:spcPts val="15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&lt;soap:Envelope xmlns:soap=</a:t>
            </a:r>
            <a:r>
              <a:rPr b="0" sz="1600" spc="-1" strike="noStrike" u="sng">
                <a:solidFill>
                  <a:srgbClr val="62cc62"/>
                </a:solidFill>
                <a:uFillTx/>
                <a:latin typeface="Courier New"/>
                <a:ea typeface="宋体"/>
                <a:hlinkClick r:id="rId1"/>
              </a:rPr>
              <a:t>http://schemas.xmlsoap.org/soap/envelope/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ts val="15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&lt;soap:Header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ts val="15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oap:encodingStyle=</a:t>
            </a:r>
            <a:r>
              <a:rPr b="0" sz="1600" spc="-1" strike="noStrike" u="sng">
                <a:solidFill>
                  <a:srgbClr val="62cc62"/>
                </a:solidFill>
                <a:uFillTx/>
                <a:latin typeface="Courier New"/>
                <a:ea typeface="宋体"/>
                <a:hlinkClick r:id="rId2"/>
              </a:rPr>
              <a:t>http://schemas.xmlsoap.org/soap/encoding/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ts val="15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wsa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o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xmln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wsa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=</a:t>
            </a:r>
            <a:r>
              <a:rPr b="0" lang="en-US" sz="1600" spc="-1" strike="noStrike" u="sng">
                <a:solidFill>
                  <a:srgbClr val="62cc62"/>
                </a:solidFill>
                <a:uFillTx/>
                <a:latin typeface="Courier New"/>
                <a:ea typeface="宋体"/>
                <a:hlinkClick r:id="rId3"/>
              </a:rPr>
              <a:t>http://schemas.xmlsoap.org/ws/2004/08/addressing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ts val="15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sz="1600" spc="-1" strike="noStrike" u="sng">
                <a:solidFill>
                  <a:srgbClr val="62cc62"/>
                </a:solidFill>
                <a:uFillTx/>
                <a:latin typeface="Courier New"/>
                <a:ea typeface="宋体"/>
                <a:hlinkClick r:id="rId4"/>
              </a:rPr>
              <a:t>http://172.31.46.26/COB/calc.cob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ts val="15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wsa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o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ts val="15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&lt;/soap:Header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ts val="15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&lt;soap:Bod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ts val="15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oap:encodingStyle=</a:t>
            </a:r>
            <a:r>
              <a:rPr b="0" sz="1600" spc="-1" strike="noStrike" u="sng">
                <a:solidFill>
                  <a:srgbClr val="62cc62"/>
                </a:solidFill>
                <a:uFillTx/>
                <a:latin typeface="Courier New"/>
                <a:ea typeface="宋体"/>
                <a:hlinkClick r:id="rId5"/>
              </a:rPr>
              <a:t>http://schemas.xmlsoap.org/soap/encoding/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ts val="15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ns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:Add xmln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ns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=</a:t>
            </a:r>
            <a:r>
              <a:rPr b="0" sz="1600" spc="-1" strike="noStrike" u="sng">
                <a:solidFill>
                  <a:srgbClr val="62cc62"/>
                </a:solidFill>
                <a:uFillTx/>
                <a:latin typeface="Courier New"/>
                <a:ea typeface="宋体"/>
                <a:hlinkClick r:id="rId6"/>
              </a:rPr>
              <a:t>http://tempuri.org/Calc/message/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ts val="15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&lt;A&gt;14&lt;/A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ts val="15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&lt;B&gt;28&lt;/B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ts val="15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/tns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:Add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ts val="15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&lt;/soap:Body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ts val="15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  <a:ea typeface="宋体"/>
              </a:rPr>
              <a:t>&lt;/soap:Envelope&gt; 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6" name=""/>
          <p:cNvSpPr/>
          <p:nvPr/>
        </p:nvSpPr>
        <p:spPr>
          <a:xfrm>
            <a:off x="371520" y="925560"/>
            <a:ext cx="83883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7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Add” two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32240" y="6307200"/>
            <a:ext cx="44164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7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The calculator is a popular interop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75840" y="191880"/>
            <a:ext cx="71931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Outline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9" name=""/>
          <p:cNvSpPr/>
          <p:nvPr/>
        </p:nvSpPr>
        <p:spPr>
          <a:xfrm>
            <a:off x="376200" y="2887560"/>
            <a:ext cx="8391600" cy="360360"/>
          </a:xfrm>
          <a:prstGeom prst="rect">
            <a:avLst/>
          </a:prstGeom>
          <a:gradFill rotWithShape="0">
            <a:gsLst>
              <a:gs pos="0">
                <a:srgbClr val="5388f4"/>
              </a:gs>
              <a:gs pos="50000">
                <a:srgbClr val="578fff"/>
              </a:gs>
              <a:gs pos="100000">
                <a:srgbClr val="5388f4"/>
              </a:gs>
            </a:gsLst>
            <a:lin ang="13500000"/>
          </a:gradFill>
          <a:ln w="12600">
            <a:solidFill>
              <a:srgbClr val="57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293920" y="1420920"/>
            <a:ext cx="44308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Invisible Computing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Why Web Servic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Our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Table driven ser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ompressed SO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Trust and secure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Distributed real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omponentized 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Real-time C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Res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Call to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Table Driven Serialization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38836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70000"/>
              </a:lnSpc>
              <a:spcAft>
                <a:spcPts val="20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Processes messages automatically according to descriptio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70000"/>
              </a:lnSpc>
              <a:spcAft>
                <a:spcPts val="7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XML metadata descriptio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ct val="7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Compiled offline into compact descriptio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ct val="70000"/>
              </a:lnSpc>
              <a:spcAft>
                <a:spcPts val="1800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Extensible at runtim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70000"/>
              </a:lnSpc>
              <a:spcAft>
                <a:spcPts val="20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Process while receiving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70000"/>
              </a:lnSpc>
              <a:spcAft>
                <a:spcPts val="7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Zero copy networking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ct val="70000"/>
              </a:lnSpc>
              <a:spcAft>
                <a:spcPts val="1800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Serializer &amp; parser share buffers with network stack &amp; crypto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70000"/>
              </a:lnSpc>
              <a:spcAft>
                <a:spcPts val="7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COM-Lite automatio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ct val="7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Turns messages into object call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ct val="70000"/>
              </a:lnSpc>
              <a:spcAft>
                <a:spcPts val="1800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Multiple methods in one messag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70000"/>
              </a:lnSpc>
              <a:spcAft>
                <a:spcPts val="7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Multiple transports and encoding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ct val="7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UDP, HTTP, Encryption, Compressio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Compressed SOAP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80520" y="1150560"/>
            <a:ext cx="4118040" cy="37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Goal: Add(A,B) call should be three byte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884160" indent="-384120">
              <a:lnSpc>
                <a:spcPts val="2599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1) Add 2) A 3) 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Must be convertible to XML mechanically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Must be able to represent any XM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50840" y="1150560"/>
            <a:ext cx="4118040" cy="32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Template based compressor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Onus on discovery proces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Process compressed data directly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Simple device only implements what it cares for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7120" y="298080"/>
            <a:ext cx="8393040" cy="587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 Secure Invisible Home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15800" y="1190520"/>
          <a:ext cx="872820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190520"/>
                    <a:ext cx="872820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Trust and Discovery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80520" y="1077480"/>
            <a:ext cx="861876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ts val="2798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Simple SOAP based trust and service discovery f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ad hoc network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798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Use “Big” Web Services (WSE/Indigo) wh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infrastructure present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798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Optimized for cluster of nodes. Base station (PC) deal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with global issue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798"/>
              </a:lnSpc>
              <a:spcAft>
                <a:spcPts val="6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Public Key Cryptography works on small devices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  <a:ea typeface="宋体"/>
              </a:rPr>
              <a:t>(but can be boosted)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ct val="7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13s RSA decrypt, 0.03s AES on 25MHz Arm7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ct val="70000"/>
              </a:lnSpc>
              <a:spcAft>
                <a:spcPts val="1400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FPGA takes times down by factors of 3000 and 10000 (3ms &amp; 2µs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7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Strong crypto necessary for marketability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7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WS-Security is too bulky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Setting up a Secure Home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116000"/>
            <a:ext cx="876312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ts val="2798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Create house authority, e.g. watch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798"/>
              </a:lnSpc>
              <a:spcAft>
                <a:spcPts val="6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Touch each device once with watch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ts val="2398"/>
              </a:lnSpc>
              <a:spcAft>
                <a:spcPts val="1599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Admits device into trust domai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798"/>
              </a:lnSpc>
              <a:spcAft>
                <a:spcPts val="6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Discovery process finds device with desired func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+ does key exchange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ts val="2398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House authority can be offlin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ts val="2398"/>
              </a:lnSpc>
              <a:spcAft>
                <a:spcPts val="1599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RSA + A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798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Write hash of house authority’s key on check to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establish trust with bank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0">
              <a:lnSpc>
                <a:spcPts val="2798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c00"/>
                </a:solidFill>
                <a:latin typeface="Arial Narrow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Federation of independent trust domain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Intuitive Setup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0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Exploit Context Historie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Trust setup touch based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The touching history is data mined to find proximity cluster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The proximity clusters indicate functional relationship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E.g. touch light-switch and light close together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884160" indent="-384120">
              <a:lnSpc>
                <a:spcPts val="2599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utomatically ties them togeth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76200" y="3870360"/>
            <a:ext cx="8391600" cy="360360"/>
          </a:xfrm>
          <a:prstGeom prst="rect">
            <a:avLst/>
          </a:prstGeom>
          <a:gradFill rotWithShape="0">
            <a:gsLst>
              <a:gs pos="0">
                <a:srgbClr val="5388f4"/>
              </a:gs>
              <a:gs pos="50000">
                <a:srgbClr val="578fff"/>
              </a:gs>
              <a:gs pos="100000">
                <a:srgbClr val="5388f4"/>
              </a:gs>
            </a:gsLst>
            <a:lin ang="13500000"/>
          </a:gradFill>
          <a:ln w="12600">
            <a:solidFill>
              <a:srgbClr val="57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75840" y="191880"/>
            <a:ext cx="71931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Outline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8" name=""/>
          <p:cNvSpPr/>
          <p:nvPr/>
        </p:nvSpPr>
        <p:spPr>
          <a:xfrm>
            <a:off x="2293920" y="1420920"/>
            <a:ext cx="44308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Invisible Computing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Why Web Servic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Our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Table driven ser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ompressed SO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Trust and secure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Distributed real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omponentized 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Real-time C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Res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Call to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Distributed Real-Time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10680" y="979560"/>
            <a:ext cx="838836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Coordinated activitie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Statistical quality contro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"/>
          <p:cNvSpPr/>
          <p:nvPr/>
        </p:nvSpPr>
        <p:spPr>
          <a:xfrm>
            <a:off x="3849840" y="3033720"/>
            <a:ext cx="3998880" cy="3311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889280" y="2228760"/>
            <a:ext cx="2144520" cy="1801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037040" y="5357880"/>
            <a:ext cx="853920" cy="279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600960" y="4092480"/>
            <a:ext cx="852480" cy="279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386080" y="2921040"/>
            <a:ext cx="852480" cy="280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7678800" y="3881520"/>
            <a:ext cx="1214280" cy="8604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038560" y="5537160"/>
            <a:ext cx="1148040" cy="8128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424960" y="24969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970440"/>
                <a:tab algn="l" pos="794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l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293800" y="386712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970440"/>
                <a:tab algn="l" pos="794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74120" y="581184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970440"/>
                <a:tab algn="l" pos="794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 rot="19897200">
            <a:off x="4865400" y="4767120"/>
            <a:ext cx="1800000" cy="250920"/>
          </a:xfrm>
          <a:custGeom>
            <a:avLst/>
            <a:gdLst>
              <a:gd name="textAreaLeft" fmla="*/ 281160 w 1800000"/>
              <a:gd name="textAreaRight" fmla="*/ 1575000 w 1800000"/>
              <a:gd name="textAreaTop" fmla="*/ 62640 h 250920"/>
              <a:gd name="textAreaBottom" fmla="*/ 188280 h 250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4600" dir="2092516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884920" y="501660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970440"/>
                <a:tab algn="l" pos="794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nsor rea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421000" y="3294000"/>
            <a:ext cx="1438200" cy="2152800"/>
          </a:xfrm>
          <a:custGeom>
            <a:avLst/>
            <a:gdLst/>
            <a:ahLst/>
            <a:rect l="l" t="t" r="r" b="b"/>
            <a:pathLst>
              <a:path w="906" h="1356">
                <a:moveTo>
                  <a:pt x="236" y="0"/>
                </a:moveTo>
                <a:cubicBezTo>
                  <a:pt x="215" y="191"/>
                  <a:pt x="0" y="919"/>
                  <a:pt x="112" y="1145"/>
                </a:cubicBezTo>
                <a:cubicBezTo>
                  <a:pt x="257" y="1286"/>
                  <a:pt x="741" y="1312"/>
                  <a:pt x="906" y="13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  <a:effectLst>
            <a:outerShdw dist="45929" dir="3371122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638440" y="458316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970440"/>
                <a:tab algn="l" pos="794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44840" y="3144960"/>
            <a:ext cx="4287960" cy="865080"/>
          </a:xfrm>
          <a:custGeom>
            <a:avLst/>
            <a:gdLst/>
            <a:ahLst/>
            <a:rect l="l" t="t" r="r" b="b"/>
            <a:pathLst>
              <a:path w="2701" h="545">
                <a:moveTo>
                  <a:pt x="0" y="0"/>
                </a:moveTo>
                <a:cubicBezTo>
                  <a:pt x="395" y="51"/>
                  <a:pt x="1974" y="213"/>
                  <a:pt x="2368" y="304"/>
                </a:cubicBezTo>
                <a:cubicBezTo>
                  <a:pt x="2701" y="428"/>
                  <a:pt x="2363" y="495"/>
                  <a:pt x="2362" y="5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  <a:effectLst>
            <a:outerShdw dist="40186" dir="4303641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544280" y="28843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970440"/>
                <a:tab algn="l" pos="794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4360" y="3238560"/>
            <a:ext cx="3154320" cy="2359080"/>
          </a:xfrm>
          <a:custGeom>
            <a:avLst/>
            <a:gdLst/>
            <a:ahLst/>
            <a:rect l="l" t="t" r="r" b="b"/>
            <a:pathLst>
              <a:path w="1987" h="1486">
                <a:moveTo>
                  <a:pt x="1987" y="1486"/>
                </a:moveTo>
                <a:cubicBezTo>
                  <a:pt x="1669" y="1431"/>
                  <a:pt x="218" y="1403"/>
                  <a:pt x="71" y="1155"/>
                </a:cubicBezTo>
                <a:cubicBezTo>
                  <a:pt x="0" y="922"/>
                  <a:pt x="889" y="241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  <a:effectLst>
            <a:outerShdw dist="40186" dir="4303641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957240" y="479124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970440"/>
                <a:tab algn="l" pos="794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Research Agenda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80520" y="1150560"/>
            <a:ext cx="83883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8600" indent="-498600">
              <a:lnSpc>
                <a:spcPts val="2699"/>
              </a:lnSpc>
              <a:spcAft>
                <a:spcPts val="27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Make deeply embedded devices interoperabl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with all classes of computers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27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Extend XML Web Services to new areas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27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Implement prototype softwar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ts val="2699"/>
              </a:lnSpc>
              <a:spcAft>
                <a:spcPts val="2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27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Provide Microsoft presence into new area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27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Add value to PC and services such as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ts val="2699"/>
              </a:lnSpc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Real Time...continued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80880" y="1420920"/>
            <a:ext cx="8569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7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Instigator of activity plans and tunes reservations based o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feedback sampl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7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Planner pre-declares future activity at each nod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7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Serialize scheduling trees into XM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7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Worker nodes accept/reject schedul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7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Coordinated schedules allow shared resource scheduling. Could turn off radio to save energ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7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Statistical decision mak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7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Quality control sampl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7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Concept demo shown at booth #320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Behavior Patterns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94840" y="1854360"/>
            <a:ext cx="8388360" cy="51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8600" indent="0">
              <a:lnSpc>
                <a:spcPct val="65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behavior name="SensorDemo"&gt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ct val="65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lt;action name="DemoInstigator"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endpoint="</a:t>
            </a:r>
            <a:r>
              <a:rPr b="0" sz="1800" spc="-1" strike="noStrike" u="sng">
                <a:solidFill>
                  <a:srgbClr val="62cc62"/>
                </a:solidFill>
                <a:uFillTx/>
                <a:latin typeface="Courier New"/>
                <a:hlinkClick r:id="rId1"/>
              </a:rPr>
              <a:t>node:instigator/COB/sensormain.cob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ct val="65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lt;message destination="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SensorProducer/*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ct val="65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lt;/action&gt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ct val="65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action name="SensorProducer"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endpoint="</a:t>
            </a:r>
            <a:r>
              <a:rPr b="0" sz="1800" spc="-1" strike="noStrike" u="sng">
                <a:solidFill>
                  <a:srgbClr val="62cc62"/>
                </a:solidFill>
                <a:uFillTx/>
                <a:latin typeface="Courier New"/>
                <a:hlinkClick r:id="rId2"/>
              </a:rPr>
              <a:t>node:sensor/COB/sensor.cob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"/&gt;      &lt;repeat count="100" Period="P1.5S"/&gt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ct val="65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message destination="SensorConsumer"/&gt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ct val="65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action&gt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ct val="65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lt;action name="SensorConsumer“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ct val="65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endpoint="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node:consumer/COB/sensor.cob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ct val="65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lt;repeat count="100" period=”P1.5S”/&gt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ct val="65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lt;/action&gt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ct val="65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sampling destination="node:instigator“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ct val="65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interval="20" number="2"/&gt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ct val="65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lt;/behavior&gt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"/>
          <p:cNvSpPr/>
          <p:nvPr/>
        </p:nvSpPr>
        <p:spPr>
          <a:xfrm>
            <a:off x="371520" y="925560"/>
            <a:ext cx="83883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7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Define the actions and resources for a j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7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Given to plan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Task: Instance of Pattern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560" y="1978200"/>
            <a:ext cx="8388360" cy="39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93560" indent="0">
              <a:lnSpc>
                <a:spcPct val="75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&lt;task name="SensorDemo-123456"&gt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93560" indent="0">
              <a:lnSpc>
                <a:spcPct val="75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action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name="SensorProducer“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93560" indent="0">
              <a:lnSpc>
                <a:spcPct val="75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deadline=”2004-12-11T02:51:48.7001508Z”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93560" indent="0">
              <a:lnSpc>
                <a:spcPct val="75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tolerance=”P0.005S”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duration=”P0.02S”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93560" indent="0">
              <a:lnSpc>
                <a:spcPct val="75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&lt;trigger maxCount="100“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93560" indent="0">
              <a:lnSpc>
                <a:spcPct val="75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o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ffset="P1.5S"&gt;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ensorProducer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&lt;/trigger&gt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93560" indent="0">
              <a:lnSpc>
                <a:spcPct val="75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&lt;/action&gt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93560" indent="0">
              <a:lnSpc>
                <a:spcPct val="75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&lt;sampling destination=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http://10.10.10.10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93560" indent="0">
              <a:lnSpc>
                <a:spcPct val="75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interval="20" number="2"/&gt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93560" indent="0">
              <a:lnSpc>
                <a:spcPct val="75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&lt;/task&gt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"/>
          <p:cNvSpPr/>
          <p:nvPr/>
        </p:nvSpPr>
        <p:spPr>
          <a:xfrm>
            <a:off x="380880" y="1039680"/>
            <a:ext cx="643572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7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Specific time and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7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Sent to worker by plan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ource and Time Esti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pplication specifies confidenc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igher confidence costs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517680" y="2771640"/>
          <a:ext cx="8045280" cy="34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2771640"/>
                    <a:ext cx="804528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5994360" y="6165720"/>
            <a:ext cx="254016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 mean + conf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Action Pl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880" y="132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stimate is predicted by statistic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olerance is medium 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4191120" y="3819600"/>
            <a:ext cx="9360" cy="46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7978320" y="3825720"/>
            <a:ext cx="9720" cy="4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1364760" y="3841920"/>
            <a:ext cx="9720" cy="46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80160" y="4389480"/>
            <a:ext cx="24440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 mean + conf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972080" y="4367160"/>
            <a:ext cx="15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l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194240" y="3309840"/>
            <a:ext cx="14166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a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62360" y="2925720"/>
            <a:ext cx="97776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a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936720" y="2894040"/>
            <a:ext cx="12492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arl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214880" y="4008600"/>
            <a:ext cx="3752640" cy="117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390680" y="4076280"/>
            <a:ext cx="2781360" cy="9720"/>
          </a:xfrm>
          <a:prstGeom prst="line">
            <a:avLst/>
          </a:prstGeom>
          <a:ln w="127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609480" y="135252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easurements are fed into statistic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odel predicts future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1463760" y="3143160"/>
            <a:ext cx="3240" cy="26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63760" y="5838840"/>
            <a:ext cx="47926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682640" y="5638680"/>
            <a:ext cx="87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732200" y="5638680"/>
            <a:ext cx="87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552760" y="3142800"/>
            <a:ext cx="3240" cy="2995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62200" y="5689440"/>
            <a:ext cx="1960560" cy="18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27360" y="2664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erio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283080" y="5634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576080" y="578952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682640" y="5838840"/>
            <a:ext cx="18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97200" y="578952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602320" y="5838840"/>
            <a:ext cx="32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14240" y="578952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39760" y="5457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43760" y="279864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xed producer d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85560" y="626436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815560" y="626436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841280" y="626436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" y="274680"/>
            <a:ext cx="8229600" cy="63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 flipV="1">
            <a:off x="2552760" y="3142800"/>
            <a:ext cx="3240" cy="2995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1463760" y="3143160"/>
            <a:ext cx="3240" cy="26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63760" y="5838840"/>
            <a:ext cx="47926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82640" y="5638680"/>
            <a:ext cx="87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32200" y="5638680"/>
            <a:ext cx="87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662200" y="5689440"/>
            <a:ext cx="1960560" cy="18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927360" y="2664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erio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283080" y="5634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76080" y="578952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682640" y="5838840"/>
            <a:ext cx="18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497200" y="578952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02320" y="5838840"/>
            <a:ext cx="32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514240" y="578952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39760" y="5457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543760" y="279864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xed producer d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285560" y="626436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815560" y="626436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841280" y="626436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92360" y="545472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741920" y="545472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671920" y="5505480"/>
            <a:ext cx="196056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09480" y="135252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easurements are fed into statistic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odel predicts future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74680"/>
            <a:ext cx="8229600" cy="63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iming Adju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 flipV="1">
            <a:off x="2552760" y="3142800"/>
            <a:ext cx="3240" cy="2995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463760" y="3143160"/>
            <a:ext cx="3240" cy="26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463760" y="5838840"/>
            <a:ext cx="47926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682640" y="5638680"/>
            <a:ext cx="87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32200" y="5638680"/>
            <a:ext cx="87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662200" y="5689440"/>
            <a:ext cx="1960560" cy="18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927360" y="2664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erio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283080" y="5634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576080" y="578952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82640" y="5838840"/>
            <a:ext cx="18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497200" y="578952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02320" y="5838840"/>
            <a:ext cx="32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514240" y="578952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39760" y="5457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43760" y="279864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xed producer d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285560" y="626436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815560" y="626436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841280" y="626436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92360" y="545472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741920" y="545472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71920" y="5505480"/>
            <a:ext cx="196056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692360" y="527364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741920" y="527364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671920" y="5324400"/>
            <a:ext cx="1960560" cy="18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692360" y="509436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741920" y="509436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671920" y="5145120"/>
            <a:ext cx="196056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962000" y="4915080"/>
            <a:ext cx="600120" cy="9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741920" y="4915080"/>
            <a:ext cx="869760" cy="9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671920" y="4965840"/>
            <a:ext cx="196056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57200" y="274680"/>
            <a:ext cx="8229600" cy="63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iming Adju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09480" y="135252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easurements are fed into statistic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odel predicts future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 flipV="1">
            <a:off x="2552760" y="3142800"/>
            <a:ext cx="3240" cy="2995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463760" y="3143160"/>
            <a:ext cx="3240" cy="26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463760" y="5838840"/>
            <a:ext cx="47926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682640" y="5638680"/>
            <a:ext cx="87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732200" y="5638680"/>
            <a:ext cx="87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662200" y="5689440"/>
            <a:ext cx="1960560" cy="18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927360" y="2664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erio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283080" y="5634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576080" y="578952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682640" y="5838840"/>
            <a:ext cx="18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497200" y="578952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602320" y="5838840"/>
            <a:ext cx="32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514240" y="578952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139760" y="5457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543760" y="279864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xed producer d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285560" y="626436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815560" y="626436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841280" y="626436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92360" y="545472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741920" y="545472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671920" y="5505480"/>
            <a:ext cx="196056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692360" y="527364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741920" y="527364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671920" y="5324400"/>
            <a:ext cx="1960560" cy="18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692360" y="509436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741920" y="509436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671920" y="5145120"/>
            <a:ext cx="196056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962000" y="4915080"/>
            <a:ext cx="600120" cy="9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741920" y="4915080"/>
            <a:ext cx="869760" cy="9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671920" y="4965840"/>
            <a:ext cx="196056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962000" y="4734000"/>
            <a:ext cx="60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41920" y="473400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71920" y="4784760"/>
            <a:ext cx="196056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62000" y="4554360"/>
            <a:ext cx="60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741920" y="455436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671920" y="4605480"/>
            <a:ext cx="196056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971720" y="4373640"/>
            <a:ext cx="60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257720" y="437364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2681280" y="4419360"/>
            <a:ext cx="1495440" cy="468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57200" y="274680"/>
            <a:ext cx="8229600" cy="63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iming Adju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09480" y="135252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easurements are fed into statistic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odel predicts future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 flipV="1">
            <a:off x="2552760" y="3142800"/>
            <a:ext cx="3240" cy="2995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1463760" y="3143160"/>
            <a:ext cx="3240" cy="26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463760" y="5838840"/>
            <a:ext cx="47926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682640" y="5638680"/>
            <a:ext cx="87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32200" y="5638680"/>
            <a:ext cx="87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662200" y="5689440"/>
            <a:ext cx="1960560" cy="18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927360" y="2664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erio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283080" y="5634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76080" y="578952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82640" y="5838840"/>
            <a:ext cx="18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497200" y="578952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602320" y="5838840"/>
            <a:ext cx="32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514240" y="578952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139760" y="5457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543760" y="279864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xed producer d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285560" y="626436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815560" y="626436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841280" y="626436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692360" y="545472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741920" y="545472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71920" y="5505480"/>
            <a:ext cx="196056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92360" y="527364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741920" y="527364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671920" y="5324400"/>
            <a:ext cx="1960560" cy="18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692360" y="509436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741920" y="509436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671920" y="5145120"/>
            <a:ext cx="196056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962000" y="4915080"/>
            <a:ext cx="600120" cy="9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741920" y="4915080"/>
            <a:ext cx="869760" cy="9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671920" y="4965840"/>
            <a:ext cx="196056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62000" y="4734000"/>
            <a:ext cx="60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41920" y="473400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671920" y="4784760"/>
            <a:ext cx="196056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962000" y="4554360"/>
            <a:ext cx="60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41920" y="455436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671920" y="4605480"/>
            <a:ext cx="196056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971720" y="4373640"/>
            <a:ext cx="60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257720" y="437364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681280" y="4419360"/>
            <a:ext cx="1495440" cy="468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962000" y="4194000"/>
            <a:ext cx="60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48000" y="4194000"/>
            <a:ext cx="45900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2671920" y="4240080"/>
            <a:ext cx="1495440" cy="50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274680"/>
            <a:ext cx="8229600" cy="63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iming Adju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135252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easurements are fed into statistic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odel predicts future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The Goal: Invisible Computing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520" y="1150560"/>
            <a:ext cx="838836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Make everyday objects better by adding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computation and communication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$5 microcontrollers (32-bit single chip computer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The computers do their job out of sigh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Natural user interface – not screen and mous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Incremental deployment, no setup hassles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Operate autonomously – added value from services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Devices communicate with each other, PCs, Web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646280" y="3564000"/>
            <a:ext cx="3465360" cy="809640"/>
          </a:xfrm>
          <a:prstGeom prst="ellipse">
            <a:avLst/>
          </a:prstGeom>
          <a:solidFill>
            <a:srgbClr val="00ccff">
              <a:alpha val="24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2552760" y="3142800"/>
            <a:ext cx="3240" cy="2995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1463760" y="3143160"/>
            <a:ext cx="3240" cy="26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463760" y="5838840"/>
            <a:ext cx="47926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82640" y="5638680"/>
            <a:ext cx="87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732200" y="5638680"/>
            <a:ext cx="87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662200" y="5689440"/>
            <a:ext cx="1960560" cy="18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927360" y="2664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erio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283080" y="5634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576080" y="578952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682640" y="5838840"/>
            <a:ext cx="18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497200" y="578952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602320" y="5838840"/>
            <a:ext cx="32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514240" y="578952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139760" y="5457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543760" y="279864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xed producer d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285560" y="626436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815560" y="626436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841280" y="626436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692360" y="545472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741920" y="545472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671920" y="5505480"/>
            <a:ext cx="196056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692360" y="527364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741920" y="527364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671920" y="5324400"/>
            <a:ext cx="1960560" cy="18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692360" y="509436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41920" y="509436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671920" y="5145120"/>
            <a:ext cx="196056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962000" y="4915080"/>
            <a:ext cx="600120" cy="9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741920" y="4915080"/>
            <a:ext cx="869760" cy="9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71920" y="4965840"/>
            <a:ext cx="196056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962000" y="4734000"/>
            <a:ext cx="60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741920" y="473400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671920" y="4784760"/>
            <a:ext cx="196056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62000" y="4554360"/>
            <a:ext cx="60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741920" y="455436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671920" y="4605480"/>
            <a:ext cx="196056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71720" y="4373640"/>
            <a:ext cx="60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257720" y="4373640"/>
            <a:ext cx="86976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681280" y="4419360"/>
            <a:ext cx="1495440" cy="468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62000" y="4194000"/>
            <a:ext cx="60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248000" y="4194000"/>
            <a:ext cx="45900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2671920" y="4240080"/>
            <a:ext cx="1495440" cy="50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62000" y="4014720"/>
            <a:ext cx="60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248000" y="4014720"/>
            <a:ext cx="45900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2671920" y="4060440"/>
            <a:ext cx="1495440" cy="468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62000" y="3833640"/>
            <a:ext cx="60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248000" y="3833640"/>
            <a:ext cx="45900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2671920" y="3879720"/>
            <a:ext cx="1495440" cy="50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62000" y="3654360"/>
            <a:ext cx="60012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248000" y="3654360"/>
            <a:ext cx="459000" cy="1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2671920" y="3700080"/>
            <a:ext cx="1495440" cy="468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111280" y="360828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eady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57200" y="274680"/>
            <a:ext cx="8229600" cy="63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iming Adju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135252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easurements are fed into statistic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odel predicts future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5597640" y="3855960"/>
            <a:ext cx="2124000" cy="628560"/>
          </a:xfrm>
          <a:prstGeom prst="ellipse">
            <a:avLst/>
          </a:prstGeom>
          <a:solidFill>
            <a:srgbClr val="00ccff">
              <a:alpha val="24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7497720" y="3519000"/>
            <a:ext cx="1800" cy="2320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55480" y="3855960"/>
            <a:ext cx="2124360" cy="628560"/>
          </a:xfrm>
          <a:prstGeom prst="ellipse">
            <a:avLst/>
          </a:prstGeom>
          <a:solidFill>
            <a:srgbClr val="00ccff">
              <a:alpha val="24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111320" y="3530160"/>
            <a:ext cx="1440" cy="2320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44600" y="3530160"/>
            <a:ext cx="144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44600" y="5619600"/>
            <a:ext cx="2935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79600" y="5464080"/>
            <a:ext cx="53172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446200" y="5464080"/>
            <a:ext cx="53352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179360" y="5504040"/>
            <a:ext cx="120024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396960" y="546084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14080" y="558180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79600" y="5619600"/>
            <a:ext cx="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916000" y="558180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979720" y="5619600"/>
            <a:ext cx="144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088640" y="558180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44440" y="5324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54840" y="311472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xed producer d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84280" y="5321160"/>
            <a:ext cx="53316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52680" y="5321160"/>
            <a:ext cx="53352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84400" y="5361120"/>
            <a:ext cx="120168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84280" y="5181480"/>
            <a:ext cx="53316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452680" y="5181480"/>
            <a:ext cx="53352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184400" y="5221440"/>
            <a:ext cx="120168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84280" y="5041800"/>
            <a:ext cx="53316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452680" y="5041800"/>
            <a:ext cx="53352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184400" y="5081760"/>
            <a:ext cx="120168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49160" y="4903920"/>
            <a:ext cx="36828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452680" y="4903920"/>
            <a:ext cx="53352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184400" y="4943520"/>
            <a:ext cx="120168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49160" y="4762440"/>
            <a:ext cx="36828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452680" y="4762440"/>
            <a:ext cx="53352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4400" y="4802040"/>
            <a:ext cx="1201680" cy="18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49160" y="4624560"/>
            <a:ext cx="36828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452680" y="4624560"/>
            <a:ext cx="53352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184400" y="4664160"/>
            <a:ext cx="120168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55640" y="4484520"/>
            <a:ext cx="368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55680" y="4484520"/>
            <a:ext cx="5335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1190520" y="4519080"/>
            <a:ext cx="916200" cy="32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49160" y="4344840"/>
            <a:ext cx="36828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149560" y="4344840"/>
            <a:ext cx="28080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184400" y="4379760"/>
            <a:ext cx="915840" cy="50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9160" y="4205160"/>
            <a:ext cx="36828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149560" y="4205160"/>
            <a:ext cx="28080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1184400" y="4241520"/>
            <a:ext cx="915840" cy="32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49160" y="4065480"/>
            <a:ext cx="36828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49560" y="4065480"/>
            <a:ext cx="28080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1184400" y="4101840"/>
            <a:ext cx="915840" cy="32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49160" y="3927600"/>
            <a:ext cx="368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149560" y="3927600"/>
            <a:ext cx="28080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184400" y="3962520"/>
            <a:ext cx="915840" cy="288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4944960" y="3530160"/>
            <a:ext cx="180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944960" y="5619600"/>
            <a:ext cx="2935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079960" y="5464080"/>
            <a:ext cx="53172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946920" y="5464080"/>
            <a:ext cx="53352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680080" y="5504040"/>
            <a:ext cx="120024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897320" y="546084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014440" y="558180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079960" y="5619600"/>
            <a:ext cx="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500600" y="558972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564320" y="5627520"/>
            <a:ext cx="1800" cy="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589360" y="558180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45160" y="5324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109120" y="3068640"/>
            <a:ext cx="30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xed consumer d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084640" y="5321160"/>
            <a:ext cx="53352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953400" y="5321160"/>
            <a:ext cx="53316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684760" y="5361120"/>
            <a:ext cx="120168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084640" y="5181480"/>
            <a:ext cx="53352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953400" y="5181480"/>
            <a:ext cx="53316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684760" y="5221440"/>
            <a:ext cx="120168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084640" y="5041800"/>
            <a:ext cx="53352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953400" y="5041800"/>
            <a:ext cx="53316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684760" y="5081760"/>
            <a:ext cx="120168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249880" y="4903920"/>
            <a:ext cx="36828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953400" y="4903920"/>
            <a:ext cx="53316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684760" y="4943520"/>
            <a:ext cx="120168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249880" y="4762440"/>
            <a:ext cx="36828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953400" y="4762440"/>
            <a:ext cx="53316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684760" y="4802040"/>
            <a:ext cx="1201680" cy="18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249880" y="4624560"/>
            <a:ext cx="36828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953400" y="4624560"/>
            <a:ext cx="53316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684760" y="4664160"/>
            <a:ext cx="120168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564160" y="4484520"/>
            <a:ext cx="368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964200" y="4484520"/>
            <a:ext cx="5335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5999040" y="4519080"/>
            <a:ext cx="916200" cy="32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829480" y="4344840"/>
            <a:ext cx="36828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229520" y="4344840"/>
            <a:ext cx="28080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6264360" y="4379760"/>
            <a:ext cx="915840" cy="50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829480" y="4205160"/>
            <a:ext cx="36828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229520" y="4205160"/>
            <a:ext cx="28080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6264360" y="4241520"/>
            <a:ext cx="915840" cy="32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829480" y="4065480"/>
            <a:ext cx="36828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229520" y="4065480"/>
            <a:ext cx="28080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6264360" y="4101840"/>
            <a:ext cx="915840" cy="32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829480" y="3927600"/>
            <a:ext cx="368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229520" y="3927600"/>
            <a:ext cx="28080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6264360" y="3962520"/>
            <a:ext cx="915840" cy="288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75680" y="6208560"/>
            <a:ext cx="23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nsor to recor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394320" y="618804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D player to spe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57200" y="274680"/>
            <a:ext cx="8229600" cy="63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iming Adju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09480" y="135252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easurements are fed into statistic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odel predicts future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75840" y="191880"/>
            <a:ext cx="71931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Outline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0" name=""/>
          <p:cNvSpPr/>
          <p:nvPr/>
        </p:nvSpPr>
        <p:spPr>
          <a:xfrm>
            <a:off x="347760" y="4135320"/>
            <a:ext cx="8391600" cy="395280"/>
          </a:xfrm>
          <a:prstGeom prst="rect">
            <a:avLst/>
          </a:prstGeom>
          <a:gradFill rotWithShape="0">
            <a:gsLst>
              <a:gs pos="0">
                <a:srgbClr val="5388f4"/>
              </a:gs>
              <a:gs pos="50000">
                <a:srgbClr val="578fff"/>
              </a:gs>
              <a:gs pos="100000">
                <a:srgbClr val="5388f4"/>
              </a:gs>
            </a:gsLst>
            <a:lin ang="13500000"/>
          </a:gradFill>
          <a:ln w="12600">
            <a:solidFill>
              <a:srgbClr val="57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293920" y="1420920"/>
            <a:ext cx="44308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Invisible Computing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Why Web Servic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Our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Table driven ser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ompressed SO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Trust and secure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Distributed real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omponentized 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Real-time C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Res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Call to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Componentized RTOS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80880" y="954000"/>
            <a:ext cx="8763120" cy="61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upport for web services on a chip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0">
              <a:lnSpc>
                <a:spcPts val="1397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General purpose in the abstract. Code and interface reuse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pecial in the concrete. Only take what you need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0">
              <a:lnSpc>
                <a:spcPts val="1397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mponent-based: objects everywhere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Real-time scheduling with application feedback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XML-based configuration and communicatio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0">
              <a:lnSpc>
                <a:spcPts val="1397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Hardware platform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ts val="2599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RM (many), PPC, i386, MIPS, TriMedia, Map1000, H8, eCOG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ts val="2599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umerous development boards, prototype gadgets, smart I/O car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ts val="2599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fect research platform” elusi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0">
              <a:lnSpc>
                <a:spcPts val="2699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4" name=""/>
          <p:cNvSpPr/>
          <p:nvPr/>
        </p:nvSpPr>
        <p:spPr>
          <a:xfrm>
            <a:off x="379440" y="878040"/>
            <a:ext cx="8229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Real-Time C#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118040" cy="34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ts val="2798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CLR desirable option for embedded system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798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Great for extensions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games, app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798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Not practical as the exclusive solution in embedded system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0">
              <a:lnSpc>
                <a:spcPts val="2798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50840" y="1150560"/>
            <a:ext cx="411804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8600" indent="-498600">
              <a:lnSpc>
                <a:spcPts val="2798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Our real-time scheduling extension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798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Prototype C# API implemented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798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Work-item Schedu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allows mixing native and managed thread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798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Interpreter execution stacks are multiplexed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798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No ROM size penalty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ts val="2798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75840" y="191880"/>
            <a:ext cx="71931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Outline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9" name=""/>
          <p:cNvSpPr/>
          <p:nvPr/>
        </p:nvSpPr>
        <p:spPr>
          <a:xfrm>
            <a:off x="376200" y="4822920"/>
            <a:ext cx="8391600" cy="384120"/>
          </a:xfrm>
          <a:prstGeom prst="rect">
            <a:avLst/>
          </a:prstGeom>
          <a:gradFill rotWithShape="0">
            <a:gsLst>
              <a:gs pos="0">
                <a:srgbClr val="5388f4"/>
              </a:gs>
              <a:gs pos="50000">
                <a:srgbClr val="578fff"/>
              </a:gs>
              <a:gs pos="100000">
                <a:srgbClr val="5388f4"/>
              </a:gs>
            </a:gsLst>
            <a:lin ang="13500000"/>
          </a:gradFill>
          <a:ln w="12600">
            <a:solidFill>
              <a:srgbClr val="57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293920" y="1420920"/>
            <a:ext cx="44308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Invisible Computing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Why Web Servic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Our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Table driven ser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ompressed SO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Trust and secure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Distributed real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omponentized 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Real-time C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Res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Call to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Microsoft Invisible Computing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80520" y="1033560"/>
            <a:ext cx="83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8600" indent="0">
              <a:lnSpc>
                <a:spcPts val="2699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2cc62"/>
                </a:solidFill>
                <a:latin typeface="Arial Narrow"/>
              </a:rPr>
              <a:t>	</a:t>
            </a:r>
            <a:r>
              <a:rPr b="1" i="1" lang="en-US" sz="2600" spc="-1" strike="noStrike">
                <a:solidFill>
                  <a:srgbClr val="62cc62"/>
                </a:solidFill>
                <a:latin typeface="Arial Narrow"/>
              </a:rPr>
              <a:t>A software platform for low cost embedded systems that communicate with each other and with big computer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Research prototyp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Has actively been used by academia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Community source licens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Complete TCP/IP, HTTP, SOAP, compressed SOAP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real-time SOAP, automation, discovery, trust &amp; security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RTOS (dynamic memory, threads, drivers, etc.), application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f573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c00"/>
                </a:solidFill>
                <a:latin typeface="Arial Narrow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Runs in computer with 32KB of RAM, 256KB of ROM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Fewer component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 smaller footprint. TCP/IP is biggest hog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Crypto not optimized for size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Call to Action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28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Visit  booth #320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Download software from: </a:t>
            </a:r>
            <a:r>
              <a:rPr b="1" lang="en-US" sz="2600" spc="-1" strike="noStrike">
                <a:solidFill>
                  <a:srgbClr val="62cc62"/>
                </a:solidFill>
                <a:latin typeface="Arial Narrow"/>
                <a:ea typeface="宋体"/>
              </a:rPr>
              <a:t>http://research.microsoft.com/invisible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Use it in products and research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Make your product interoperate with low-cost device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Talk to jvh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Sample Applications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80520" y="1150560"/>
            <a:ext cx="411804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ts val="2699"/>
              </a:lnSpc>
              <a:spcAft>
                <a:spcPts val="27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Home appliances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security, lighting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699"/>
              </a:lnSpc>
              <a:spcAft>
                <a:spcPts val="27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Sensor network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699"/>
              </a:lnSpc>
              <a:spcAft>
                <a:spcPts val="27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Medical electronic device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699"/>
              </a:lnSpc>
              <a:spcAft>
                <a:spcPts val="27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Wearable computer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699"/>
              </a:lnSpc>
              <a:spcAft>
                <a:spcPts val="27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Robotics, industrial control, national infrastructure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50840" y="1150920"/>
            <a:ext cx="4118040" cy="31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8600" indent="-498600">
              <a:lnSpc>
                <a:spcPts val="2699"/>
              </a:lnSpc>
              <a:spcAft>
                <a:spcPts val="27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Wireles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communication gadget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27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Audio net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27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Disaggregated PC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smart I/O card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27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Toy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76200" y="1440000"/>
            <a:ext cx="8391600" cy="360360"/>
          </a:xfrm>
          <a:prstGeom prst="rect">
            <a:avLst/>
          </a:prstGeom>
          <a:gradFill rotWithShape="0">
            <a:gsLst>
              <a:gs pos="0">
                <a:srgbClr val="5388f4"/>
              </a:gs>
              <a:gs pos="50000">
                <a:srgbClr val="578fff"/>
              </a:gs>
              <a:gs pos="100000">
                <a:srgbClr val="5388f4"/>
              </a:gs>
            </a:gsLst>
            <a:lin ang="13500000"/>
          </a:gradFill>
          <a:ln w="12600">
            <a:solidFill>
              <a:srgbClr val="57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74760" y="191880"/>
            <a:ext cx="71928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Outline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293920" y="1420560"/>
            <a:ext cx="4430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Invisible Computing Device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Why Web Services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Our approach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Table driven serializ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ompressed SOA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Trust and secure discove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Distributed real-ti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omponentized RTO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ct val="80000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Real-time C#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Result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ct val="80000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Call to actio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08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6" name=""/>
          <p:cNvSpPr/>
          <p:nvPr/>
        </p:nvSpPr>
        <p:spPr>
          <a:xfrm>
            <a:off x="152280" y="5334120"/>
            <a:ext cx="53136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4100" spc="-1" strike="noStrike">
                <a:solidFill>
                  <a:srgbClr val="003300"/>
                </a:solidFill>
                <a:latin typeface="Arial"/>
                <a:ea typeface="宋体"/>
              </a:rPr>
              <a:t>An Invisible Computing Scenari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38080" y="3429000"/>
            <a:ext cx="17859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Interoper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Data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34320" y="4952880"/>
            <a:ext cx="187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8640">
              <a:lnSpc>
                <a:spcPct val="100000"/>
              </a:lnSpc>
              <a:buClr>
                <a:srgbClr val="003300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Bandwid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8640">
              <a:lnSpc>
                <a:spcPct val="100000"/>
              </a:lnSpc>
              <a:buClr>
                <a:srgbClr val="003300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Ro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Real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Non-graphical 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Zero-config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352680" y="2666880"/>
            <a:ext cx="68580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1200" spc="-1" strike="noStrike">
                <a:solidFill>
                  <a:srgbClr val="000000"/>
                </a:solidFill>
                <a:latin typeface="Bookman"/>
                <a:ea typeface="宋体"/>
              </a:rPr>
              <a:t>VC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003640" y="3995640"/>
            <a:ext cx="595440" cy="203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538960" y="1165320"/>
            <a:ext cx="595080" cy="203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781680" y="3213000"/>
            <a:ext cx="957240" cy="587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954680" y="4178160"/>
            <a:ext cx="676080" cy="401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761160" y="3371760"/>
            <a:ext cx="108756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[Pacemaker]</a:t>
            </a: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9600" y="3078000"/>
            <a:ext cx="1225800" cy="190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Arial"/>
                <a:ea typeface="宋体"/>
              </a:rPr>
              <a:t>XP 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43360" y="4146480"/>
            <a:ext cx="108756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[Watch]</a:t>
            </a: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What are Web Services?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80520" y="1150920"/>
            <a:ext cx="4118040" cy="42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ts val="2699"/>
              </a:lnSpc>
              <a:spcAft>
                <a:spcPts val="27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The general-purpose solution to communication, in XM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699"/>
              </a:lnSpc>
              <a:spcAft>
                <a:spcPts val="27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XML is more suitable to computer processing than HTML. Common language for representing any data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699"/>
              </a:lnSpc>
              <a:spcAft>
                <a:spcPts val="27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Convergence of EDI, RPC, MSMQ, app specific protocols and formats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50840" y="1150560"/>
            <a:ext cx="4118040" cy="35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8600" indent="-498600">
              <a:lnSpc>
                <a:spcPts val="2699"/>
              </a:lnSpc>
              <a:spcAft>
                <a:spcPts val="27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All about interoperation. Allows partial understanding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27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Common protocols obviate need for proxies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2701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Builds on critical mas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and momentum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0">
              <a:lnSpc>
                <a:spcPts val="2699"/>
              </a:lnSpc>
              <a:spcAft>
                <a:spcPts val="2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Do they Scale?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80520" y="1245960"/>
            <a:ext cx="8388360" cy="43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XML Web Services conceived to solv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e-business interop problem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Implementations geared towards high-end computer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The same interop problem is the crux of ubiquitous computing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Resource constraint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ts val="2599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ilicon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– footpri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ts val="2599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Energy –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parsing overhea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-455760">
              <a:lnSpc>
                <a:spcPts val="2599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andwidth –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ize of messag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1028880" indent="0">
              <a:lnSpc>
                <a:spcPts val="2599"/>
              </a:lnSpc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573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Efficient implementation and compres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76200" y="191880"/>
            <a:ext cx="8393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宋体"/>
              </a:rPr>
              <a:t>Specific Needs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95000" y="1271520"/>
            <a:ext cx="7194600" cy="27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Coordinated real-time computing on multiple device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884160" indent="-384120">
              <a:lnSpc>
                <a:spcPts val="2599"/>
              </a:lnSpc>
              <a:spcAft>
                <a:spcPts val="601"/>
              </a:spcAft>
              <a:buClr>
                <a:srgbClr val="ef573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Energy aware protocols (turn off receive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Efficient Security and Privacy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Simple setup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8600" indent="-498600">
              <a:lnSpc>
                <a:spcPts val="2699"/>
              </a:lnSpc>
              <a:spcAft>
                <a:spcPts val="1400"/>
              </a:spcAft>
              <a:buClr>
                <a:srgbClr val="ef573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宋体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02:46:29Z</dcterms:created>
  <dc:creator>jvh</dc:creator>
  <dc:description/>
  <dc:language>en-US</dc:language>
  <cp:lastModifiedBy>Microsoft Employee</cp:lastModifiedBy>
  <dcterms:modified xsi:type="dcterms:W3CDTF">2005-03-10T22:25:02Z</dcterms:modified>
  <cp:revision>197</cp:revision>
  <dc:subject/>
  <dc:title>Slide 1</dc:title>
</cp:coreProperties>
</file>